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558-615B-46DC-8161-42E27B67B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B48D-4D1E-4373-B314-8B24CA21AB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F406-6E7D-4742-9233-9E8E1EBF63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F0A-1E42-4A2E-BD7D-C086FA58FA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2391-19B3-4EA7-9AD5-790BFE99B5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76D7-071C-4786-B30D-2319D2E67F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ECA5-B3E6-4AB9-8879-297BF781E1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028-D250-44F3-BCD1-7E43900B5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600B-3A84-46E6-AC12-74A72FE968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3068-80B8-4B27-82A1-0BE4FD3D83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63ущд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E324-BD25-43BC-9B4B-FFCF453E70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A868-4B60-4E12-9B4D-2B59A5C176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873B-B2F3-4C8F-9AC8-A7EC6A1C78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2B6E-ECE8-4BD1-974A-8C0FA452F1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D92-5C54-4B56-BC91-2721EC4958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80E-E709-47FD-AD4C-8D65F93A3C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C95-3361-4518-A7E4-CEB409EA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8CF-88A4-43E2-A205-6E828BF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CE396-BA55-4147-9FCD-F2724FB4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E07B5-7AA5-4935-97F9-7D4A6840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F0A6B-F00D-44BB-B7A7-90BB17FB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C6A2E-618F-45E9-B9CC-4D85B0C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166E9-F2B6-469D-9779-20FF53DC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55CB6-91D9-4F5E-90ED-568D20E1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B54AB-474A-4B76-89DB-F1B2B4F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BEC70-E2F2-464D-903C-31AAF61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F61A9-EB9E-4181-802B-B643F2A5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41790-6604-41AA-A14E-762D413F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C13-917D-4609-9CA6-12F1DB33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63807-CF0C-4A00-A1AF-BAE13A50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2A268-3650-48B4-905E-A5C5081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C69F4-AECE-4BBA-87CA-8FB4F4C0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2B09-A5C7-49D5-AE1A-FE0BC64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83ADE-C967-4A95-93E3-790D8189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12CDE-6D97-4A84-9DC0-A6A9082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C396-96A3-4D1D-AF8D-5C1FFBC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3A7F6-2307-464F-A967-75C05475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CD8F3-2F0E-45F5-935B-D012F4C4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5BB71-DBCF-4E97-9207-11FBD1D3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1D1-85A7-472A-AB10-CB4033FA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321DE-80DF-46B3-A99A-490CBC0E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41394-1986-4EC6-AEF1-2CD84B18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CC25B-4CD0-4495-933B-9B3C72D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4E1D9-C856-4FB4-8D6A-FE182FC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9F60F-F6D8-48BC-AD8D-656F0053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E4EC8-251E-45A7-8603-D7E9F09A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C28C0-D861-4056-B0C3-A813B6BA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840DD-8F64-4B94-B431-F88AC02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9B90C-3742-4871-BB24-AB50B26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10909-E23F-4D73-B5A6-44D7155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6BC0-9E20-4380-9CE1-06D2B209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9EF17-29E3-4026-8C05-C3A5389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FEE92-ACCB-4FBC-8127-17922F9F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BB343-160A-407A-A017-C59F3BD2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368C-CF54-43DA-90F1-22D22EF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0CDC-2EDD-4516-833B-BD70BB6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83FC-EA36-4A12-89C6-C092AE2B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DA03-FDAF-4E21-B537-9871D36F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74D6-A858-4BA6-9498-D38DB2FD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E43-E330-41E5-9691-1E7F5A3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C28-E34E-4B0F-AE02-89B95AE1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C760-1EFA-47D1-B495-818CFFEE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EBE6-5960-45D5-842D-1EAB40D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363F-4922-45E9-A75E-66CA21E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0B1F-796C-4F37-B9FF-93BFD383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FB3F-86FE-4A00-8D86-F5FCEE7F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31107-C0A9-4217-9554-B70B8E2D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0169-8DFE-4D65-8F50-C805BEA0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1D13-62CE-403D-A73C-E880F6A4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B19F-2670-4F1E-94B9-A9D4AB2F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46FC-21CF-4F7B-9B0B-DBF17383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3B5-6D44-439C-8E86-95E66DAE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C29A8-327F-4377-BA30-209A6E81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0589-1F56-4CE7-BBCA-CF62673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BDB1-3D66-489C-AF39-E3181A5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E68C-E474-4FA2-9269-73875718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D872-57C4-40DE-870F-EF9B4737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CB6F-AE8C-424E-973F-80FCCE67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63D1-8AD1-402B-9929-F985EB9A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9E1A-9435-44BD-A28B-722D51D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F66F-B901-41B2-8B02-CB215867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DCED-EB16-4C5B-BE20-495FB854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46D-CFAA-4FD2-B556-86F1D27F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9FEE-B423-40D3-9FF2-C27D805B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EDFD-186A-42ED-890B-4EC0F68E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CF1B0-1A8D-46C3-8A49-E6DCAE3A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0B60-7A71-4E73-BF0A-4C11EC9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25FD-27D5-4EA8-8BAB-DF498A1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9C77-F17F-4FA8-B191-7736FF1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3572-5F10-4E49-B550-61759823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304C-5797-403B-80D4-5B696373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F2BD-8230-4785-838C-B5E24517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487E1-8A87-46F4-95E8-69BCEB9A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489-8843-4B84-B87A-9AA0D7EF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2B0B9-517B-4F68-BDF0-42BD364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8F88-4E94-4136-B636-2A792490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E1D6-91EF-47A5-9A0D-1E593B5D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CD30-8F24-48F9-BD2F-AEFB3558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11AE-A5D4-450C-9A7D-D13DB352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BBAA-6C98-462D-A5EF-8341604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9292-BF44-4A8C-93A6-48AF5AD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00B3-360A-4202-BD0D-92CCBC4A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D6731-BC12-49CB-9948-73C117C1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CF7B-302E-4B04-832F-819E3928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E1C-A329-4381-875F-BB80035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18EC-23C5-4188-A81B-581B2189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A63A-5B30-4724-81CC-FD4AC236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EDB9-1C9C-4C62-BCE4-96A90183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69A4-BFE4-4A88-8D91-CDA7F6C1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76183-9D34-4036-9313-E5D034FB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DED0A-B957-47B7-B104-E2CB6741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05678-AC92-4CA6-9D4B-968D3428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A875-DD9E-4646-B3A3-488611C2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9BAC3-9930-47B7-94EE-89DFC27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A6D0-1A1B-481F-8296-A870C21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F6F-1202-45DA-BAC9-715D250F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F62C-24C5-44E7-8CE2-5DDB64F2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48A18-015F-4D26-B883-0A46E47A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5D90-C023-4306-A9F1-661482A1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49FF5-571E-4B52-97E1-D577F36F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7B10C-C2EE-4D62-85F8-B21C71E3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9717-0BE2-432E-8766-5C58DF2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29C29-9A6B-4F5C-BBC8-1391D77A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3D92-088A-453E-9BBB-5A93B91A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A3C6-30F3-4151-AB14-17DC0F95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FAB1-5877-4B14-BEBF-21F2547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947-559A-4BC8-A18A-392317D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2865-CBDE-4272-A45F-9F77EEE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A2BC-0AA3-4F82-9913-8D5A338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D9630-79DD-4BC8-8DDA-49A6E304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E0D5-9644-4E09-8823-2FECD3CC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84E1C-74A5-4942-8EC8-02EC9841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67EAD-2B0B-4DBA-8FB3-B1EA9A45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CBEE-AC47-4980-91B8-5339D06D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4B7AB-B424-4109-9AC6-224786A8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7D28D-38C0-41FD-B906-F5399967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AE0BF-CAF7-42F9-B020-E70E0D85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803-313A-47CE-A784-D0D94A2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FB7F2-616F-44C6-AFE9-28D62F7A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FFB1E-379B-4913-844F-EABB39F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3917B-694D-4157-9A29-68114613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18FF2-7468-484A-BA89-5333AA4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DE81C-B323-42D6-9D7D-C8E1110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5F42C-C200-4A51-B9F8-2AC11B9B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3119-4584-44B2-93BB-1EAE0658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1FC90-BDF3-4500-AB2C-3209FDDE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71580-8C0B-46BA-BA70-6CBE0A40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1EB91-0099-4B0F-BC3D-182CEE33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6BA5-B8F2-4C13-9072-4ACBEC69D280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B623-BD15-4A60-936C-E3E79C8F96BC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B4D1-ACE8-4DC7-A900-74950BEE8630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D58E-F6E7-4CFA-B825-22E2B086AB72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EED9-3085-48FD-97AB-14EA30BAFAF8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0D1-E198-4BD1-9F2B-6AE2AA42A70D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CAC9-3073-411C-BB4A-BC2C8E7DD1D2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CD99-8956-4E9B-8E96-3C628EACD631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715-7E4F-42F8-859A-8CD5652DCA5A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B57-0546-4380-BE1B-C60C12A7335C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6FD0-EB97-4E8C-967B-0182EF714C90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8208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6360" y="874440"/>
            <a:ext cx="379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 : Обзор датчиков в медиц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1116000" y="1890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5076720" y="4292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: доцент кафедры ТОМЛ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аневич Мария Серг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ая соединительная линия 2"/>
          <p:cNvSpPr/>
          <p:nvPr/>
        </p:nvSpPr>
        <p:spPr>
          <a:xfrm>
            <a:off x="4513320" y="512640"/>
            <a:ext cx="0" cy="2808360"/>
          </a:xfrm>
          <a:prstGeom prst="line">
            <a:avLst/>
          </a:prstGeom>
          <a:ln w="4752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250920" y="639720"/>
            <a:ext cx="3578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Дисципли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УЗЛЫ И ЭЛЕМЕНТЫ МЕДИЦИНСКОЙ ТЕ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Рисунок 7" descr=""/>
          <p:cNvPicPr/>
          <p:nvPr/>
        </p:nvPicPr>
        <p:blipFill>
          <a:blip r:embed="rId1"/>
          <a:stretch/>
        </p:blipFill>
        <p:spPr>
          <a:xfrm>
            <a:off x="0" y="3489480"/>
            <a:ext cx="9186840" cy="3376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6"/>
          <p:cNvSpPr/>
          <p:nvPr/>
        </p:nvSpPr>
        <p:spPr>
          <a:xfrm>
            <a:off x="0" y="3495600"/>
            <a:ext cx="4492800" cy="3378240"/>
          </a:xfrm>
          <a:prstGeom prst="rect">
            <a:avLst/>
          </a:prstGeom>
          <a:solidFill>
            <a:srgbClr val="344bf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5"/>
          <p:cNvSpPr/>
          <p:nvPr/>
        </p:nvSpPr>
        <p:spPr>
          <a:xfrm>
            <a:off x="-1073160" y="3613320"/>
            <a:ext cx="102600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960" y="448956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 : доцент, к.т.н. Лисаневич М.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тудентов 3 кур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е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дицинской инженер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Емкостный датчи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140000" y="1125000"/>
            <a:ext cx="46796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костный датчи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ис. 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ет быть использован плоский конденсатор. Если сместить относительно друг друга обкладки заряженного конденсатора, то изменится его электроемкость и соответственно изменится разность потенциалов между его обкладками [5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Рисунок 7" descr=""/>
          <p:cNvPicPr/>
          <p:nvPr/>
        </p:nvPicPr>
        <p:blipFill>
          <a:blip r:embed="rId1"/>
          <a:srcRect l="16447" t="39794" r="56567" b="28325"/>
          <a:stretch/>
        </p:blipFill>
        <p:spPr>
          <a:xfrm>
            <a:off x="755640" y="1484280"/>
            <a:ext cx="3395520" cy="241128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8"/>
          <p:cNvSpPr/>
          <p:nvPr/>
        </p:nvSpPr>
        <p:spPr>
          <a:xfrm>
            <a:off x="1055160" y="443700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.4. Ёмкостный датч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Резистивные датчики (тензодатчи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ивные датчики (тензодатчики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йствия тензодатчиков (Рис. 7) основан на тензоэффекте. Тензоэффект проявляется в том, что активное сопротивление проводника зависит от механической деформации: от сжатия, растяжения, изгиба, кручения [5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Рисунок 10" descr=""/>
          <p:cNvPicPr/>
          <p:nvPr/>
        </p:nvPicPr>
        <p:blipFill>
          <a:blip r:embed="rId1"/>
          <a:srcRect l="19600" t="33914" r="41029" b="29750"/>
          <a:stretch/>
        </p:blipFill>
        <p:spPr>
          <a:xfrm>
            <a:off x="4788000" y="4005360"/>
            <a:ext cx="2333520" cy="121428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11"/>
          <p:cNvSpPr/>
          <p:nvPr/>
        </p:nvSpPr>
        <p:spPr>
          <a:xfrm>
            <a:off x="3870000" y="5300640"/>
            <a:ext cx="34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.7. Резистивный датчик д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Энергетические дат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Рисунок 6" descr="Фотодатчик со световым потоком прерываемым обьектом управления"/>
          <p:cNvPicPr/>
          <p:nvPr/>
        </p:nvPicPr>
        <p:blipFill>
          <a:blip r:embed="rId1"/>
          <a:srcRect l="0" t="0" r="0" b="14978"/>
          <a:stretch/>
        </p:blipFill>
        <p:spPr>
          <a:xfrm>
            <a:off x="971640" y="2852640"/>
            <a:ext cx="3456000" cy="1944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Картинки по запросу &quot;фотодатчики&quot;"/>
          <p:cNvPicPr/>
          <p:nvPr/>
        </p:nvPicPr>
        <p:blipFill>
          <a:blip r:embed="rId2"/>
          <a:stretch/>
        </p:blipFill>
        <p:spPr>
          <a:xfrm>
            <a:off x="5076720" y="2924280"/>
            <a:ext cx="3024360" cy="165708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8"/>
          <p:cNvSpPr/>
          <p:nvPr/>
        </p:nvSpPr>
        <p:spPr>
          <a:xfrm>
            <a:off x="5506200" y="501336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ис.8. Фотодатч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12840" y="927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ие датчики создают в исследуемом объекте энергетический поток со строго определенными, постоянными во времени параметрами. Исследуемая величина воздействует на этот поток, модулирует его изменения, пропорциональные изменениям самой величины. К датчикам такого типа    относятся фотоэлектрические (Рис.7 и 8)  и ультразвуковые [5]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611280" y="4475160"/>
            <a:ext cx="396072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7. Фотодатчик со световым потоком, прерываемым О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источни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а,2-оптическая система,3-пемещаемая деталь , размеры которой нужно контролировать, 4-заслонка , связанная механически с ОУ и перекрывающая часть светового потока    5-фотоэлемент ,6-оптическая система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Пьезодатчики датч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067280" y="170028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элементом конструкции ультразвукового датчи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пьезоэлектрическ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ател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х посыло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устически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пругих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л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Рисунок 7" descr="Картинки по запросу &quot;ультразвуковые датчики в медицине&quot;"/>
          <p:cNvPicPr/>
          <p:nvPr/>
        </p:nvPicPr>
        <p:blipFill>
          <a:blip r:embed="rId1"/>
          <a:stretch/>
        </p:blipFill>
        <p:spPr>
          <a:xfrm>
            <a:off x="826920" y="1413000"/>
            <a:ext cx="3384720" cy="295272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8"/>
          <p:cNvSpPr/>
          <p:nvPr/>
        </p:nvSpPr>
        <p:spPr>
          <a:xfrm>
            <a:off x="818280" y="450864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 9. Ультразвуковой датчи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электрические и неэлектрические  сигналы являются существенным диагностическим показателем многих заболеваний. Поэтому очень важно правильно регистрировать эти показатели и извлекать необходимую медицинскую информаци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полупроводниковой технологии позволило также расширить сферы применения датчиков и к тому же повысить их точность, быстродействие, надежность, долговечность, удобство сопряжения с электронными измерительными схемами. Массовый характер производства датчиков способствует снижению их цены, что также является немаловажным фактором, определяющим их внедрение в практику  [1]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одержимое 2"/>
          <p:cNvSpPr/>
          <p:nvPr/>
        </p:nvSpPr>
        <p:spPr>
          <a:xfrm>
            <a:off x="287280" y="981000"/>
            <a:ext cx="8677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Г. Виглеб. Датчики. Устройство и применение. От переводчика. Перевод с немецкого канд. физ.-мат, наук М. А. Хацериова. Москва, «Мир», 1989 [Электронный ресурс]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ttp://www.toroid.ru/vigleb.html (Дата обращения: 20.02.202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колзина В.А. Медицинская физика [Электронный ресурс]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ttps://fis.wikireading.ru/2292 (Дата обращения: 20.02.202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Ремизов А.Н. Медицинская  и биологическая физика: Учеб. для мед. вузов. – М.: Высш. школа, 1987. – 638 с.: и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дицинская аппаратура. Статья.  Классификация датчиков [Электронный ресурс]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edapparat.blogspot.com/2012/01/blog-post_8215.html (Дата обращения: 21.02.202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ермский государственный медуниверситет им. Е.А.Вагнера. Исследование работы датчиков. [Электронный ресурс]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ttps://studfile.net/preview/537382/page:3/ (Дата обращения: 21.02.202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едицинские датчики. [Электронный ресурс]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ttps://studyport.ru/referaty/meditsina/5915-meditsinskie-datchiki (Дата обращения: 23.02.202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44bf6"/>
              </a:solidFill>
              <a:latin typeface="Calibri"/>
            </a:endParaRPr>
          </a:p>
        </p:txBody>
      </p:sp>
      <p:sp>
        <p:nvSpPr>
          <p:cNvPr id="469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647640" y="1522440"/>
            <a:ext cx="784872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съема преобразует информацию медико-биологического и физиологического содержания в сигнал электронного устройства. В медицинской электронике используются два вида устройств съема: электроды и датчики [2]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медико-биологические характеристики нельзя «снять» электродами, так как они не отражаются биоэлектрическим сигналом: давление крови, температура, звуки сердца и многие другие. В этих случаях используют датчики (измерительные преобразователи) [3, с.370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Классификация  датч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Прямоугольник 6"/>
          <p:cNvSpPr/>
          <p:nvPr/>
        </p:nvSpPr>
        <p:spPr>
          <a:xfrm>
            <a:off x="4211640" y="1197000"/>
            <a:ext cx="180036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тч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Скругленный прямоугольник 7"/>
          <p:cNvSpPr/>
          <p:nvPr/>
        </p:nvSpPr>
        <p:spPr>
          <a:xfrm>
            <a:off x="2050920" y="1989000"/>
            <a:ext cx="2016360" cy="287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оуправляем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Скругленный прямоугольник 8"/>
          <p:cNvSpPr/>
          <p:nvPr/>
        </p:nvSpPr>
        <p:spPr>
          <a:xfrm>
            <a:off x="6516720" y="1989000"/>
            <a:ext cx="2138400" cy="287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нерге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Скругленный прямоугольник 9"/>
          <p:cNvSpPr/>
          <p:nvPr/>
        </p:nvSpPr>
        <p:spPr>
          <a:xfrm>
            <a:off x="539640" y="278136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нератор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активны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Скругленный прямоугольник 10"/>
          <p:cNvSpPr/>
          <p:nvPr/>
        </p:nvSpPr>
        <p:spPr>
          <a:xfrm>
            <a:off x="3419640" y="2781360"/>
            <a:ext cx="2016000" cy="57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ра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ассив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" name="Прямая со стрелкой 11"/>
          <p:cNvCxnSpPr>
            <a:stCxn id="475" idx="1"/>
          </p:cNvCxnSpPr>
          <p:nvPr/>
        </p:nvCxnSpPr>
        <p:spPr>
          <a:xfrm flipH="1">
            <a:off x="2626560" y="1449360"/>
            <a:ext cx="1585080" cy="324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81" name="Прямая со стрелкой 12"/>
          <p:cNvCxnSpPr>
            <a:stCxn id="476" idx="2"/>
          </p:cNvCxnSpPr>
          <p:nvPr/>
        </p:nvCxnSpPr>
        <p:spPr>
          <a:xfrm>
            <a:off x="3059280" y="2276280"/>
            <a:ext cx="1513440" cy="432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82" name="Прямая со стрелкой 13"/>
          <p:cNvCxnSpPr>
            <a:stCxn id="476" idx="2"/>
          </p:cNvCxnSpPr>
          <p:nvPr/>
        </p:nvCxnSpPr>
        <p:spPr>
          <a:xfrm flipH="1">
            <a:off x="1691640" y="2276280"/>
            <a:ext cx="1367640" cy="36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83" name="Прямая со стрелкой 14"/>
          <p:cNvCxnSpPr>
            <a:stCxn id="475" idx="3"/>
          </p:cNvCxnSpPr>
          <p:nvPr/>
        </p:nvCxnSpPr>
        <p:spPr>
          <a:xfrm>
            <a:off x="6012000" y="1449360"/>
            <a:ext cx="1513440" cy="3960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84" name="Скругленный прямоугольник 15"/>
          <p:cNvSpPr/>
          <p:nvPr/>
        </p:nvSpPr>
        <p:spPr>
          <a:xfrm>
            <a:off x="324000" y="3645000"/>
            <a:ext cx="2592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ьезоэлек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рмоэлектрические   индукци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Скругленный прямоугольник 16"/>
          <p:cNvSpPr/>
          <p:nvPr/>
        </p:nvSpPr>
        <p:spPr>
          <a:xfrm>
            <a:off x="3708360" y="3645000"/>
            <a:ext cx="23036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ёмкос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укт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оста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Скругленный прямоугольник 17"/>
          <p:cNvSpPr/>
          <p:nvPr/>
        </p:nvSpPr>
        <p:spPr>
          <a:xfrm>
            <a:off x="6227640" y="2708280"/>
            <a:ext cx="2665440" cy="7207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тоэлек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льтразвуко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Прямая со стрелкой 18"/>
          <p:cNvCxnSpPr>
            <a:stCxn id="477" idx="2"/>
          </p:cNvCxnSpPr>
          <p:nvPr/>
        </p:nvCxnSpPr>
        <p:spPr>
          <a:xfrm>
            <a:off x="7584840" y="2276280"/>
            <a:ext cx="11880" cy="36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88" name="Прямая со стрелкой 19"/>
          <p:cNvCxnSpPr>
            <a:stCxn id="479" idx="2"/>
            <a:endCxn id="485" idx="0"/>
          </p:cNvCxnSpPr>
          <p:nvPr/>
        </p:nvCxnSpPr>
        <p:spPr>
          <a:xfrm>
            <a:off x="4427280" y="3357720"/>
            <a:ext cx="432360" cy="2880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89" name="Прямая со стрелкой 20"/>
          <p:cNvCxnSpPr/>
          <p:nvPr/>
        </p:nvCxnSpPr>
        <p:spPr>
          <a:xfrm flipH="1">
            <a:off x="1258560" y="3357720"/>
            <a:ext cx="397440" cy="2880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490" name="Прямоугольник 1"/>
          <p:cNvSpPr/>
          <p:nvPr/>
        </p:nvSpPr>
        <p:spPr>
          <a:xfrm>
            <a:off x="385920" y="5457960"/>
            <a:ext cx="85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ависимости от энергии, являющейся носителем информации, различают механические, акустические, температурные, электрические, оптические и другие датч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[3, с.371]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2"/>
          <p:cNvSpPr/>
          <p:nvPr/>
        </p:nvSpPr>
        <p:spPr>
          <a:xfrm>
            <a:off x="2484360" y="187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Классификация  датчик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0" y="1149480"/>
          <a:ext cx="9144000" cy="5433840"/>
        </p:xfrm>
        <a:graphic>
          <a:graphicData uri="http://schemas.openxmlformats.org/drawingml/2006/table">
            <a:tbl>
              <a:tblPr/>
              <a:tblGrid>
                <a:gridCol w="1979640"/>
                <a:gridCol w="2016000"/>
                <a:gridCol w="1728720"/>
                <a:gridCol w="1656000"/>
                <a:gridCol w="1763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с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перату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ьез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ериальное д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окардио-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-электр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ук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исто-карди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окардио-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электр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сигем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Ёмк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окарди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оста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ериа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 крови  и Баллисто-карди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у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 в желудочно-кишечном трак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95" name="Прямоугольник 6"/>
          <p:cNvSpPr/>
          <p:nvPr/>
        </p:nvSpPr>
        <p:spPr>
          <a:xfrm>
            <a:off x="539640" y="763560"/>
            <a:ext cx="84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. 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озможные медико-биологические применения  типов датчико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, с.37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Характеристики датч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Прямоугольник 1"/>
          <p:cNvSpPr/>
          <p:nvPr/>
        </p:nvSpPr>
        <p:spPr>
          <a:xfrm>
            <a:off x="-3240" y="1484280"/>
            <a:ext cx="7959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встви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минимальное изменение снимаемого параметра, которое можно устойчиво обнаружить с помощью данного преобразователя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ческий диапазо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диапазон входных величин, измерение которых производится без заметных искажений от максимальной предельной величины до минимальной, ограниченной порогом чувствительности или уровнем поме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  Погреш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аксимальная разность между получаемой и номинальной выходными величинам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  Время реак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инимальный промежуток времени, в те­чение которого происходит установка входной величины на уровень, соответствующий измененному уровню входной величины [4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280" y="154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Генераторные датч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78920" y="782640"/>
            <a:ext cx="8929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  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ные – это датчики, которые под воздействием измеряемого сигнала непосредственно генерируют напряжение или ток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пары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носятся к термоэлектрическим преобразователя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1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2771640" y="2644560"/>
            <a:ext cx="61214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пара представляет замкнутую цепь из двух разнородных металлических проводников (Рис. 1) [5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металлов A и К (спаи) поддерживают при разных температурах. 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й спай, его 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ся постоянной. А – рабочий спай, он помещается в среду, температур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Т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торой  надо измери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Рисунок 9" descr="https://studfile.net/html/727/337/html_nv7lCY18Bc.HcU6/img-wl9Z3j.png"/>
          <p:cNvPicPr/>
          <p:nvPr/>
        </p:nvPicPr>
        <p:blipFill>
          <a:blip r:embed="rId1"/>
          <a:srcRect l="0" t="0" r="0" b="19384"/>
          <a:stretch/>
        </p:blipFill>
        <p:spPr>
          <a:xfrm>
            <a:off x="250920" y="2421000"/>
            <a:ext cx="2520720" cy="18716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"/>
          <p:cNvSpPr/>
          <p:nvPr/>
        </p:nvSpPr>
        <p:spPr>
          <a:xfrm>
            <a:off x="0" y="435312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 Термопара (схем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360" y="-360"/>
            <a:ext cx="896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Генераторные датч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пи термопары возникает термоэлектродвижущая сила (ТЭДС), величина которой прямо пропорциональна разности температур рабочего и контрольного спаев и определяется соотнош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 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 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удельная 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казывающая, какая 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никает в данной цепи при разности температур контактов в один градус [5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Рисунок 7" descr="Стандартная термопара"/>
          <p:cNvPicPr/>
          <p:nvPr/>
        </p:nvPicPr>
        <p:blipFill>
          <a:blip r:embed="rId1"/>
          <a:stretch/>
        </p:blipFill>
        <p:spPr>
          <a:xfrm>
            <a:off x="1979640" y="4221000"/>
            <a:ext cx="3714840" cy="189864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8"/>
          <p:cNvSpPr/>
          <p:nvPr/>
        </p:nvSpPr>
        <p:spPr>
          <a:xfrm>
            <a:off x="5884560" y="5877000"/>
            <a:ext cx="27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.2. Стандартная термопа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Пьезоэлектрические датч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8000" y="6922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зоэлектрические датч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х работа основана на явлении прямого пьезоэффект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заключается в том, что на противоположных концах кристаллической пластинки возникают заряды различных знаков, если пластинку деформировать. Механическое напряжение преобразуется в разность потенциалов между ее концами [5]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Рисунок 7" descr=""/>
          <p:cNvPicPr/>
          <p:nvPr/>
        </p:nvPicPr>
        <p:blipFill>
          <a:blip r:embed="rId1"/>
          <a:srcRect l="63724" t="38229" r="20868" b="37676"/>
          <a:stretch/>
        </p:blipFill>
        <p:spPr>
          <a:xfrm>
            <a:off x="5076720" y="3573360"/>
            <a:ext cx="3332160" cy="27352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1"/>
          <p:cNvSpPr/>
          <p:nvPr/>
        </p:nvSpPr>
        <p:spPr>
          <a:xfrm>
            <a:off x="1403280" y="5623200"/>
            <a:ext cx="34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3. Пьезоэлектрические датч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Индукционные дат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2"/>
          <p:cNvSpPr/>
          <p:nvPr/>
        </p:nvSpPr>
        <p:spPr>
          <a:xfrm>
            <a:off x="539640" y="4211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6" descr="Принцип работы индуктивного датчика"/>
          <p:cNvPicPr/>
          <p:nvPr/>
        </p:nvPicPr>
        <p:blipFill>
          <a:blip r:embed="rId1"/>
          <a:stretch/>
        </p:blipFill>
        <p:spPr>
          <a:xfrm>
            <a:off x="747720" y="3746520"/>
            <a:ext cx="7524720" cy="269568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https://studfile.net/html/727/337/html_nv7lCY18Bc.HcU6/img-AxfZH0.png"/>
          <p:cNvPicPr/>
          <p:nvPr/>
        </p:nvPicPr>
        <p:blipFill>
          <a:blip r:embed="rId2"/>
          <a:srcRect l="0" t="0" r="0" b="26885"/>
          <a:stretch/>
        </p:blipFill>
        <p:spPr>
          <a:xfrm>
            <a:off x="826920" y="1341360"/>
            <a:ext cx="1847880" cy="135108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10"/>
          <p:cNvSpPr/>
          <p:nvPr/>
        </p:nvSpPr>
        <p:spPr>
          <a:xfrm>
            <a:off x="324000" y="263700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5. Индуктивный датчик  (схем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Прямоугольник 11"/>
          <p:cNvSpPr/>
          <p:nvPr/>
        </p:nvSpPr>
        <p:spPr>
          <a:xfrm>
            <a:off x="2556000" y="907920"/>
            <a:ext cx="6480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уктивный датчи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остейшем варианте представлен 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5. Катушка 1 намотана на замкнутый сердечник 2. Якорь 3 может перемещаться относительно сердечника и замыкать послед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ходной величиной такого датчика является механическое перемещение якоря, выходной - ток в цепи катушки [5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PC</dc:creator>
  <dc:description/>
  <dc:language>en-US</dc:language>
  <cp:lastModifiedBy>HP</cp:lastModifiedBy>
  <cp:lastPrinted>2014-02-25T10:50:40Z</cp:lastPrinted>
  <dcterms:modified xsi:type="dcterms:W3CDTF">2022-03-21T11:45:09Z</dcterms:modified>
  <cp:revision>179</cp:revision>
  <dc:subject/>
  <dc:title>Презентация PowerPoint</dc:title>
</cp:coreProperties>
</file>