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1E9B-E707-4DC8-8132-CF2A87E1B2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F953-5A5E-459B-8EED-E177FB11A6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E43C-A53E-4AD8-8186-8874DCA000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089-6923-46C5-BF11-2D22EAAB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A29B-6884-4BD6-82F2-E2CCA8A9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8A173-C43E-44F4-B8D8-5A9020CE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37AEF-A295-4748-A089-30DB8FAF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17259-D835-4E5E-B748-BBDB561B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CECEE-758F-4BD8-857A-285CE2B3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A4E26-06D4-416B-A433-EC727414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5187D-37E4-4B18-A326-B37B87AA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203A0-6395-47EC-9051-93A6093A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7EB31-7A8A-41AE-9F59-5B08F3C3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FCF7B-A50A-4195-A680-BD7F7DE7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99A72-2A4F-43CB-8813-63103528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48F0-0651-47CB-A160-CBE3B420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280D1-71F5-4CD6-B8DE-84BBBFEA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2394C-2843-46CB-A221-DB86CAB7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A48E5-7747-49F1-A182-01A1544F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952B1-884C-45E3-82C6-14685408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4AC4B-195D-48BC-B89A-33B1847E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3CFA7-9379-4411-BE15-6FEA8022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996BE-65D6-4876-9358-D153A40A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BD233-6D78-4C70-9DEB-D67519CB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5EF5D-E70A-41CC-B85C-E5AB27BB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E9BDB-C353-46B9-B7A0-5FE9D7F8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61E-7DFE-4F2C-A7F1-2252D860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2C38F-7455-490B-80E8-013593B1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C817A-EAAB-4C0F-A227-CCF5230E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829C1-31B8-41FE-8198-9F488FB4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FF178-A6E2-4B0A-BD04-082E0ED2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32CB0-3C8B-4ACB-A247-BEB3EE59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20F4B-2FC1-4E6F-B53C-ABA0691A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A8465-D634-404E-90D4-C407B651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868D2-3138-4ACF-9F56-011600B1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1EC90-E524-4A86-87B9-2BD4AF41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BA023-2775-4347-B285-3BABC052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332F-75AD-49FD-ADF0-4FA4457B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F61D6-5E3F-4461-9671-E39B5953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53BFC-9D0A-430E-B58A-D52DADE1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D9A6C-8A09-4727-B5F0-32F9B388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03E5-5627-4B61-A5FA-F014F0A5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8424-9E27-48BA-B962-F41B8BA2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7159-C2B9-489C-8227-69E6CC99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E326-BC12-45C4-997B-29D4F8C5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E792-6C97-44A9-9EE9-806D9112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9DAB-CDC4-424F-A7B8-139AFA33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CCFC-AEF0-46E0-A0A0-4647E2BD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10DB-7207-4CA9-8F03-1314AE93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DA18-2CD8-4C6B-982F-90EA70E8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7D8C-489B-41FE-BEF1-A252B31E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4B03-56FE-4C6E-99CA-545F7B69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4CC4-B78F-48C7-B876-DA03C957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C2682-72B6-4543-B1BA-E965961C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6C4F4-A471-43A7-AE88-CDE450B0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90CF2-D2C2-4A78-A196-33C9B478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1E8B7-9004-47E5-BAE7-A8B0D5AC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E09EC-9E29-48A7-8BD7-D91A1C1B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EAEE-E302-49ED-8B9B-4AB49AEE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75F8F-8931-4DC6-A141-FFB02377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D5138-6FA4-4A93-81E9-CC553117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49B9C-7CAA-4C76-9482-1663103C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8D56F-DCCE-45F8-833C-C0F43BC7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5B874-2438-4181-A72F-44DE7A86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4D124-EC40-4893-8109-1E91D85F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E99BD-2A78-4400-8D72-C370B540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A7111-3F20-45E9-95D6-2A0C0589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C7E17-37B4-41F9-A6AF-DA251B9B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DA7DC-D393-45D9-A227-91AB510E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1237-66D8-4355-B8DF-547F9448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2B7E2-095D-4100-8DA7-A33BD9C7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C0A29-4016-4002-8EFD-30A1D2FD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4964-2EE9-45CB-8D6E-33C9E69A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A1CE5-DAE9-48F8-A81A-E90FE848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EC433-ED9D-4D3D-AB0B-E7EBF448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D4A07-967E-453E-85CA-F30A6130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1CB44-9A80-46B8-8A06-867A717A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555C0-A67F-4652-A3BB-AE1FBB99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EA7C2-D46F-4BD8-A5FF-7037A407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1238D-FA09-483F-8C6A-EF19FFC9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44B-EDCC-4FB0-A73B-A77F5E5F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985B4-1102-43F7-B5FE-D8FC4234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46CC5-D8E9-4E08-93E8-23CFEA71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C609A-FBC4-4273-8792-77C30E5A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0F297-6FFB-42B8-B4E2-4E381AA9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4D3F0-BF1F-4A3F-9A08-C5D87C93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21897-DF8A-4FB1-9EC2-31B659E5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9076A-0320-4CB9-A4E2-B219F31D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37D86-5E90-4835-9BDB-0449CEBB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86488-14CF-4D5E-A585-1732EDE1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75322-A74A-4760-BBF5-047A6B9D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679C-D677-40B7-87EA-01325D70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7B225-20D9-49FE-8908-EF479E53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5A116-FA97-4274-8C5D-635D4280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60CB3-11E4-455E-AC61-91E6C250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AEDD6-A6D1-4478-A7F5-B848E963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3A232-6F41-4952-991C-87D31F1D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8B1D6-34A7-46D7-84E4-21BE9944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6A81F-3EAD-40F2-908B-B8FA1EC9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2E6B2-35B6-4C27-9B69-65870B05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20832-CB5A-4743-88F7-89CE963F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12CA5-7CC7-4390-B0FC-6790C264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AEE1-FC36-4BEC-A2A6-792CCE1B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4B2CF-DF3F-448C-9B91-0280F943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70379-ED30-439F-8857-3298E257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CE864-B03C-4FCB-96E5-CDA96B64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5FF77-09C7-4261-AFB8-4FE216E0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E9351-71FF-4F76-9DEA-EB01EC17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7B1D2-9ED7-4B78-8161-12C86718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F3CBD-969F-4651-92C9-F635B1D6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A821D-E611-43D5-A6CB-E6DBC641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FBD97-1E7F-48EA-B140-1B56D25C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053A5-2AA0-4594-A358-EED9467B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C3B2-F5D8-453E-848D-79A09D4D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2970F-7AA6-40F1-BAB4-0B67A405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A38D0-108C-44E5-9B51-71D12637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7B86D-8CCD-4F14-B21D-D0915059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A3607-C950-4B70-9CD2-A9A284F9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47BE9-3BF8-4367-924A-DEA68D20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A5386-9485-49BC-8F6C-88204141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6FC4B-ED3E-4720-8D18-08482C51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1CFE3-3C4F-4635-AB24-D3E68760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6757A-7BDD-449E-B877-99785339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96AA4-0DCC-44F4-BE6F-29A64DEC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F73B-9368-40D5-8B42-22900F29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E673A-7AD7-4ACA-925E-76E90619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C7586-E0F7-4487-81AE-E5852EE2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4CFEF-4C75-4DED-BD71-572EA965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EE736-6373-4804-B77E-CF0F0ACC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3755C-CED2-4953-84C5-360C4C6D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26B34-87FD-461F-B829-D7C5589B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7E5AB-05C2-4E27-9A49-FAEC1BAA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68D6A-9B48-40CD-9A74-9E8EBA34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84053-3A0D-45D6-B0F7-097E6CB9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62343-DCB7-4A35-BEE9-833B960B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4F77-7113-4A7A-8D36-1822F741E8B0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8B1D-AB11-4B60-926B-DC95E4F869A6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CC90-AD64-4B8C-A7DF-B5286D218CCD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7E03-B94E-4634-B376-AAA02E31D21F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49B0-7D2A-4351-958F-EFA74809D920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6057-6733-4627-9625-1385A55BC8E7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6E5F-C6B6-41EE-B07B-0A7CD889C417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C8B4-B91E-4E2D-ACED-8B7C7A8AC70D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4CC3-683D-4A43-8434-130AAAF16BD8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7DA6-072D-4CDF-91AD-5B211ED06BA8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8434-A835-4000-9687-BC7D11B948E1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4220640"/>
            <a:ext cx="820872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076360" y="874440"/>
            <a:ext cx="37911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ма: Устройство съема медико-биологической информации в медицинской техники: датчики и электр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1116000" y="189000"/>
            <a:ext cx="6934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Box 1"/>
          <p:cNvSpPr/>
          <p:nvPr/>
        </p:nvSpPr>
        <p:spPr>
          <a:xfrm>
            <a:off x="5076720" y="429264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тор: доцент кафедры ТОМЛ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аневич Мария Серг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Прямая соединительная линия 2"/>
          <p:cNvSpPr/>
          <p:nvPr/>
        </p:nvSpPr>
        <p:spPr>
          <a:xfrm>
            <a:off x="4513320" y="512640"/>
            <a:ext cx="0" cy="2808360"/>
          </a:xfrm>
          <a:prstGeom prst="line">
            <a:avLst/>
          </a:prstGeom>
          <a:ln w="4752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Box 4"/>
          <p:cNvSpPr/>
          <p:nvPr/>
        </p:nvSpPr>
        <p:spPr>
          <a:xfrm>
            <a:off x="250920" y="639720"/>
            <a:ext cx="3578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Дисципли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УЗЛЫ И ЭЛЕМЕНТЫ МЕДИЦИНСКОЙ ТЕН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Рисунок 7" descr=""/>
          <p:cNvPicPr/>
          <p:nvPr/>
        </p:nvPicPr>
        <p:blipFill>
          <a:blip r:embed="rId1"/>
          <a:stretch/>
        </p:blipFill>
        <p:spPr>
          <a:xfrm>
            <a:off x="0" y="3489480"/>
            <a:ext cx="9186840" cy="337644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6"/>
          <p:cNvSpPr/>
          <p:nvPr/>
        </p:nvSpPr>
        <p:spPr>
          <a:xfrm>
            <a:off x="0" y="3495600"/>
            <a:ext cx="4492800" cy="3378240"/>
          </a:xfrm>
          <a:prstGeom prst="rect">
            <a:avLst/>
          </a:prstGeom>
          <a:solidFill>
            <a:srgbClr val="344bf6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Прямоугольник 5"/>
          <p:cNvSpPr/>
          <p:nvPr/>
        </p:nvSpPr>
        <p:spPr>
          <a:xfrm>
            <a:off x="-1073160" y="3613320"/>
            <a:ext cx="10260000" cy="33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8"/>
          <p:cNvSpPr/>
          <p:nvPr/>
        </p:nvSpPr>
        <p:spPr>
          <a:xfrm>
            <a:off x="48960" y="4489560"/>
            <a:ext cx="43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ТОР : доцент, к.т.н. Лисаневич М.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тудентов 3 курс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фед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едицинской инженери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Прямоугольник 4"/>
          <p:cNvSpPr/>
          <p:nvPr/>
        </p:nvSpPr>
        <p:spPr>
          <a:xfrm>
            <a:off x="2714400" y="287280"/>
            <a:ext cx="44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Классификация электр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50920" y="1150920"/>
            <a:ext cx="845820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80"/>
                </a:solidFill>
                <a:latin typeface="Times New Roman"/>
              </a:rPr>
              <a:t>Вакуумные электроды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е электроды используются в дарсонвализации. Воздух внутри стеклянных электродов баллонов имеет низкое давление (6,7-13,5 Па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Object 4"/>
          <p:cNvGraphicFramePr/>
          <p:nvPr/>
        </p:nvGraphicFramePr>
        <p:xfrm>
          <a:off x="1835280" y="2779560"/>
          <a:ext cx="685800" cy="15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79560"/>
                    <a:ext cx="68580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9" name="Picture 11" descr=""/>
          <p:cNvPicPr/>
          <p:nvPr/>
        </p:nvPicPr>
        <p:blipFill>
          <a:blip r:embed="rId3"/>
          <a:stretch/>
        </p:blipFill>
        <p:spPr>
          <a:xfrm>
            <a:off x="3419640" y="2746440"/>
            <a:ext cx="2008080" cy="164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0" name="Object 6"/>
          <p:cNvGraphicFramePr/>
          <p:nvPr/>
        </p:nvGraphicFramePr>
        <p:xfrm>
          <a:off x="6080040" y="2722680"/>
          <a:ext cx="2629080" cy="1571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80040" y="2722680"/>
                    <a:ext cx="262908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Прямоугольник 1"/>
          <p:cNvSpPr/>
          <p:nvPr/>
        </p:nvSpPr>
        <p:spPr>
          <a:xfrm>
            <a:off x="395280" y="43243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-2  Стеклянные вакуумные электроды (а), использование электродов при лечении волосистой части головы (б)</a:t>
            </a:r>
            <a:r>
              <a:rPr b="0" lang="en-US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365040" y="5062680"/>
            <a:ext cx="86868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ru-RU" sz="1600" spc="-1" strike="noStrike">
                <a:solidFill>
                  <a:srgbClr val="344bf6"/>
                </a:solidFill>
                <a:latin typeface="Times New Roman"/>
              </a:rPr>
              <a:t>контактной методике</a:t>
            </a:r>
            <a:r>
              <a:rPr b="0" lang="ru-RU" sz="1600" spc="-1" strike="noStrike">
                <a:solidFill>
                  <a:srgbClr val="344bf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непрерывный контакт электрода с кожей) действующим фактором является среднечастотный электрический то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ru-RU" sz="1600" spc="-1" strike="noStrike">
                <a:solidFill>
                  <a:srgbClr val="344bf6"/>
                </a:solidFill>
                <a:latin typeface="Times New Roman"/>
              </a:rPr>
              <a:t>дистанционной методике</a:t>
            </a:r>
            <a:r>
              <a:rPr b="0" lang="ru-RU" sz="1600" spc="-1" strike="noStrike">
                <a:solidFill>
                  <a:srgbClr val="344bf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электрод удален от кожи) действующим фактором является искровой разряд. При обеих методиках вакуумные электроды перемещаются относительно кож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Прямоугольник 4"/>
          <p:cNvSpPr/>
          <p:nvPr/>
        </p:nvSpPr>
        <p:spPr>
          <a:xfrm>
            <a:off x="1070640" y="260280"/>
            <a:ext cx="76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Times New Roman"/>
              </a:rPr>
              <a:t>Датчики медико-биологической информации</a:t>
            </a:r>
            <a:r>
              <a:rPr b="0" lang="ru-RU" sz="2800" spc="-1" strike="noStrike">
                <a:solidFill>
                  <a:srgbClr val="344bf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179280" y="1371600"/>
            <a:ext cx="8736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Calibri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344bf6"/>
                </a:solidFill>
                <a:latin typeface="Calibri"/>
                <a:ea typeface="Times New Roman"/>
              </a:rPr>
              <a:t>Датчик</a:t>
            </a:r>
            <a:r>
              <a:rPr b="0" i="1" lang="ru-RU" sz="3200" spc="-1" strike="noStrike">
                <a:solidFill>
                  <a:srgbClr val="344bf6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устройство, преобразующее измеряемую или контролируемую величину в сигнал, удобный для передачи и регистр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образуемая величина </a:t>
            </a:r>
            <a:r>
              <a:rPr b="0" i="1" lang="en-US" sz="3200" spc="-1" strike="noStrike">
                <a:solidFill>
                  <a:srgbClr val="800080"/>
                </a:solidFill>
                <a:latin typeface="Calibri"/>
                <a:ea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ывается входной, а измеряемый сигнал </a:t>
            </a:r>
            <a:r>
              <a:rPr b="0" lang="el-GR" sz="3200" spc="-1" strike="noStrike">
                <a:solidFill>
                  <a:srgbClr val="800080"/>
                </a:solidFill>
                <a:latin typeface="Calibri"/>
                <a:ea typeface="Times New Roman"/>
              </a:rPr>
              <a:t>α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ходной величиной.</a:t>
            </a:r>
            <a:r>
              <a:rPr b="0" lang="ru-RU" sz="3200" spc="-1" strike="noStrike">
                <a:solidFill>
                  <a:srgbClr val="eeece1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Прямоугольник 4"/>
          <p:cNvSpPr/>
          <p:nvPr/>
        </p:nvSpPr>
        <p:spPr>
          <a:xfrm>
            <a:off x="1989720" y="171360"/>
            <a:ext cx="44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Times New Roman"/>
              </a:rPr>
              <a:t>Характеристики датч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233280" y="1557360"/>
            <a:ext cx="8910720" cy="39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Характеристика датчик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ункциональная зависимость выходной величины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входно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описывается аналитически или графическ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о стремятся иметь датчик с линейной характеристикой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= k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постоянный коэффициен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Чувствительность датчик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е изменения выходной величины к соответствующему изменению входной величины:</a:t>
            </a:r>
            <a:r>
              <a:rPr b="0" lang="ru-RU" sz="2000" spc="-1" strike="noStrike">
                <a:solidFill>
                  <a:srgbClr val="eeece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S = </a:t>
            </a:r>
            <a:r>
              <a:rPr b="1" lang="el-GR" sz="2000" spc="-1" strike="noStrike">
                <a:solidFill>
                  <a:srgbClr val="800080"/>
                </a:solidFill>
                <a:latin typeface="Times New Roman"/>
              </a:rPr>
              <a:t>α</a:t>
            </a:r>
            <a:r>
              <a:rPr b="1" i="1" lang="en-US" sz="2000" spc="-1" strike="noStrike">
                <a:solidFill>
                  <a:srgbClr val="800080"/>
                </a:solidFill>
                <a:latin typeface="Times New Roman"/>
              </a:rPr>
              <a:t> /</a:t>
            </a: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Х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Предел датчик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ксимальное значение входной величины, которое может быть воспринято датчиком без искажения и без повреждения датч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Порог датчик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мальное изменение входной величины, которое можно обнаружить датчик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Прямоугольник 4"/>
          <p:cNvSpPr/>
          <p:nvPr/>
        </p:nvSpPr>
        <p:spPr>
          <a:xfrm>
            <a:off x="2721960" y="17136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Times New Roman"/>
              </a:rPr>
              <a:t>Классы датч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2"/>
          <p:cNvSpPr/>
          <p:nvPr/>
        </p:nvSpPr>
        <p:spPr>
          <a:xfrm>
            <a:off x="250920" y="1413000"/>
            <a:ext cx="8458200" cy="43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80"/>
                </a:solidFill>
                <a:latin typeface="Times New Roman"/>
              </a:rPr>
              <a:t>Генераторные датчик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такие, которые под воздействием входного сигнала генерируют напряжение или ток (индукционные, пьезоэлектрические, фотоэлектрические и т.п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80"/>
                </a:solidFill>
                <a:latin typeface="Times New Roman"/>
              </a:rPr>
              <a:t>Параметрические датчик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— такие, в которых под воздействием входного сигнала изменяется какой-либо параметр (тензометрические, емкостные, индуктивные, реостатные и т.п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личают механические, акустические, температурные, оптические и другие датч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Прямоугольник 4"/>
          <p:cNvSpPr/>
          <p:nvPr/>
        </p:nvSpPr>
        <p:spPr>
          <a:xfrm>
            <a:off x="1976040" y="171360"/>
            <a:ext cx="44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Times New Roman"/>
              </a:rPr>
              <a:t>Параметрические датч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611280" y="98100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мкост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стоят из конденсатор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ндукти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держат катушку индуктив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44bf6"/>
                </a:solidFill>
                <a:latin typeface="Calibri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1760" y="16765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Электроды и датч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Прямоугольник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Прямая соединительная линия 5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Структурная схема съема, передачи и регистрации медико-биологическ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12"/>
          <p:cNvSpPr/>
          <p:nvPr/>
        </p:nvSpPr>
        <p:spPr>
          <a:xfrm>
            <a:off x="468360" y="4797360"/>
            <a:ext cx="8381880" cy="15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измеряемый параметр биологической систем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величина, регистрируемая на выходе измерительным прибор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Прямая соединительная линия 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Рисунок 6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345440" cy="25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682560" y="15238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Электроды</a:t>
            </a:r>
            <a:r>
              <a:rPr b="0" lang="ru-RU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проводники специальной формы, соединяющие измерительную цепь с биологической систем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электродам предъявляютс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должны быстро фиксироваться и сниматьс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высокую стабильность электрических параметр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скажать сигнал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здражать биологическую ткань и т. п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Прямоугольник 1"/>
          <p:cNvSpPr/>
          <p:nvPr/>
        </p:nvSpPr>
        <p:spPr>
          <a:xfrm>
            <a:off x="2212920" y="254160"/>
            <a:ext cx="49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Принцип действия электр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Рисунок 3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3565440" cy="2679840"/>
          </a:xfrm>
          <a:prstGeom prst="rect">
            <a:avLst/>
          </a:prstGeom>
          <a:ln w="0">
            <a:noFill/>
          </a:ln>
        </p:spPr>
      </p:pic>
      <p:sp>
        <p:nvSpPr>
          <p:cNvPr id="484" name="Прямоугольник 4"/>
          <p:cNvSpPr/>
          <p:nvPr/>
        </p:nvSpPr>
        <p:spPr>
          <a:xfrm>
            <a:off x="0" y="1440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bf6"/>
                </a:solidFill>
                <a:latin typeface="Calibri"/>
              </a:rPr>
              <a:t>Эквивалентная электрическ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bf6"/>
                </a:solidFill>
                <a:latin typeface="Calibri"/>
              </a:rPr>
              <a:t>схема контура, включающего в себ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bf6"/>
                </a:solidFill>
                <a:latin typeface="Calibri"/>
              </a:rPr>
              <a:t>биологическую систему и электр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Прямоугольник 1"/>
          <p:cNvSpPr/>
          <p:nvPr/>
        </p:nvSpPr>
        <p:spPr>
          <a:xfrm>
            <a:off x="2286000" y="4330800"/>
            <a:ext cx="4572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П — ЭДС источника биопотенциал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 — сопротивление внутренних орган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 —  сопротивление кожи и электродов; RВХ — входное сопротивление усилител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179280" y="1187280"/>
            <a:ext cx="8439120" cy="55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 уменьшения сопротивления контакта «электрод-кожа» можно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салфетки, смоченные физрастворо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ь площадь электрода (истинная картина в этом случае может искажаться, так как электрод будет захватывать сразу несколько эквипотенциальных поверхносте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Прямоугольник 5"/>
          <p:cNvSpPr/>
          <p:nvPr/>
        </p:nvSpPr>
        <p:spPr>
          <a:xfrm>
            <a:off x="3278880" y="241200"/>
            <a:ext cx="18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Электр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Прямоугольник 1"/>
          <p:cNvSpPr/>
          <p:nvPr/>
        </p:nvSpPr>
        <p:spPr>
          <a:xfrm>
            <a:off x="468360" y="141300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назначению электроды для съема биоэлектрического сигнала подразделяют на следующие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ля кратковременного применения в кабинетах функциональной диагностики, например, для разового снятия электрокардиограм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ля длительного использования, например, при постоянном наблюдении за тяжелобольными в условиях палат интенсивной терап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ля использования на подвижных обследуемых, например, в спортивной или космической медицин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ля экстренного применения, например, в условиях скорой помо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Прямоугольник 4"/>
          <p:cNvSpPr/>
          <p:nvPr/>
        </p:nvSpPr>
        <p:spPr>
          <a:xfrm>
            <a:off x="2714400" y="287280"/>
            <a:ext cx="44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Классификация электр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Прямоугольник 4"/>
          <p:cNvSpPr/>
          <p:nvPr/>
        </p:nvSpPr>
        <p:spPr>
          <a:xfrm>
            <a:off x="1625400" y="260280"/>
            <a:ext cx="58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Виды электродов при физиотерап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"/>
          <p:cNvSpPr/>
          <p:nvPr/>
        </p:nvSpPr>
        <p:spPr>
          <a:xfrm>
            <a:off x="343080" y="1341360"/>
            <a:ext cx="84582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80"/>
                </a:solidFill>
                <a:latin typeface="Times New Roman"/>
              </a:rPr>
              <a:t>Плоские электроды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кие электроды используются, например, при гальванизации, электрофорезе. К телу больного подводят постоянный ток с помощью двух электродов, каждый из которых состоит из свинцовой пластинки (или токопроводящей углеграфитовой ткани) и гидрофильной проклад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Прямоугольник 4"/>
          <p:cNvSpPr/>
          <p:nvPr/>
        </p:nvSpPr>
        <p:spPr>
          <a:xfrm>
            <a:off x="2766600" y="28728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Плоские электр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9" descr=""/>
          <p:cNvPicPr/>
          <p:nvPr/>
        </p:nvPicPr>
        <p:blipFill>
          <a:blip r:embed="rId1"/>
          <a:stretch/>
        </p:blipFill>
        <p:spPr>
          <a:xfrm>
            <a:off x="1692360" y="1128600"/>
            <a:ext cx="5997600" cy="289260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2"/>
          <p:cNvSpPr/>
          <p:nvPr/>
        </p:nvSpPr>
        <p:spPr>
          <a:xfrm>
            <a:off x="457200" y="3581280"/>
            <a:ext cx="82296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унок 1 - Расположение плоских электродов при гальв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1" i="1" lang="ru-RU" sz="2400" spc="-1" strike="noStrike">
                <a:solidFill>
                  <a:srgbClr val="344bf6"/>
                </a:solidFill>
                <a:latin typeface="Times New Roman"/>
              </a:rPr>
              <a:t>продольном</a:t>
            </a:r>
            <a:r>
              <a:rPr b="0" i="1" lang="ru-RU" sz="2400" spc="-1" strike="noStrike">
                <a:solidFill>
                  <a:srgbClr val="344bf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оложении электродов (на одной стороне тела) воздействию подвергаются поверхностно расположенные ткани. При </a:t>
            </a:r>
            <a:r>
              <a:rPr b="1" i="1" lang="ru-RU" sz="2400" spc="-1" strike="noStrike">
                <a:solidFill>
                  <a:srgbClr val="344bf6"/>
                </a:solidFill>
                <a:latin typeface="Times New Roman"/>
              </a:rPr>
              <a:t>поперечном</a:t>
            </a:r>
            <a:r>
              <a:rPr b="0" i="1" lang="ru-RU" sz="2400" spc="-1" strike="noStrike">
                <a:solidFill>
                  <a:srgbClr val="344bf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оложении электродов (на противоположных участках тела) воздействию подвергаются глубоко расположенные органы и тка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PC</dc:creator>
  <dc:description/>
  <dc:language>en-US</dc:language>
  <cp:lastModifiedBy>Mariia L</cp:lastModifiedBy>
  <cp:lastPrinted>2014-02-25T10:50:40Z</cp:lastPrinted>
  <dcterms:modified xsi:type="dcterms:W3CDTF">2022-02-14T08:47:12Z</dcterms:modified>
  <cp:revision>148</cp:revision>
  <dc:subject/>
  <dc:title>Презентация PowerPoint</dc:title>
</cp:coreProperties>
</file>