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B880-DD67-4A6A-B901-DE21AE48F5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9CA5-EDB7-4552-91F0-B41C6BA4883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6036-9C63-4C25-B4FF-7C744AA48A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FFF-6787-4DCC-AE4B-70D8D42332A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C9EF-735A-4DBE-A0F6-86F9FF2F691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8AD1-4CDC-4570-9349-1E14A06873C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BDB-C736-46E0-8358-EE997515F71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4F67-C724-4456-97B6-328D0FDF49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63ущд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3082-DAFE-4243-B992-2EBEF672D38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BDDC-8BD2-4AEA-B17C-2842D87DBE0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C208-842F-4413-B02B-AA6AB44B347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5680-11F5-4118-AFE1-3A994314B22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4F30-09BC-4AE9-9E97-00FAFF31142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B63-BD35-46AC-8D28-A8D6C6D2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292-4112-4019-835D-0F9CC77E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38A1B-6310-4B2B-B2E6-E43E1837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DACEC-A128-40C9-9D5B-A51129C5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D1ECD-AFFB-428B-8BF1-9155C8B4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E5708-305A-4A9F-B6C3-011E5D78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01B29-8DC7-416C-84FD-69B25AB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3C69F-997F-4A20-BFA9-A0F4DDBB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5B4F0-91B1-4976-961D-2C724B1D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EA11C-C5EF-40C2-877A-63EF7AE6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3A933-CDF7-49DE-874F-2C4F167B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A5F53-5638-4746-BB8B-EB5BA1CF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2DE-004B-4168-AB5A-B64A0E2F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2FDE1-3E84-412A-9EEA-D4BF6753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35DD5-D8D9-48C9-812C-833F7E92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ED6CF-E796-4532-9F6E-6DC83B4C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F0721-60B0-4427-86EC-AF7B4478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7ABD2-3C6A-4C33-8421-28B493A9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14782-5F23-4A3D-8792-7599CE71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F51C9-61FA-4893-BD49-A6C2891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39B6C-AB94-41E4-A436-466B709C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87072-E489-44AA-9B52-55E6EB74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7E54B-991A-48EC-8600-D57921C8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0E8-75F2-45A4-9192-7BF52E00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7C5E2-A2A7-48B3-924D-91CEEB5A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CEBFA-9063-445C-B0E5-4C77EC07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DD1B6-EB1B-49C9-A730-05A22D88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6F9A-34D9-43D0-B352-52DE194A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8A1AA-EBFD-4765-91DA-3CC26F26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08DF9-7385-441B-AE98-0670A50D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70E44-48C4-437B-A9E7-024FB4E7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CED75-C5B2-49CE-828F-C7FA9057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DCE65-7619-4401-AA6C-83935BF4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570A8-7F37-4C20-8058-9CA770A3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184F-9EAE-4EF1-A03B-905B5281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5F961-0DF2-40B1-A832-0F3BE85F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B7722-8A40-416B-8D39-AD764FBA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FF0D7-0CCB-4C67-8B24-9035CCB3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4F5C-1BAF-4934-8175-89D62E6E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E891-2D2A-4EA7-A4E5-10C0E250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D2E7-CEBF-4D1A-816F-6CA35319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DFB4-1F02-4253-AAF7-4449E9A1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1C80-F9C3-47EE-940D-C0E15661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AB37-E8FA-425D-AFCE-C8B50F9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241-EE33-4EE6-804A-913AD46A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F0AB-C126-47F8-9E3C-421AF75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68FA-27CF-47A6-B133-2E44B7D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59E2-0913-43C4-9C00-BB731917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2F06-CF61-4CE0-84CF-001DD351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375E-99AE-4A9D-B392-CD7BEB0E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DDFD-204A-470D-86B4-088CF24D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E82E-891A-4C1D-8375-3443EDB0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06E2-C2C4-4D28-A6A4-01A8BA7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F4A1-D44D-4B16-91BD-59554A10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80AF-9661-402A-9FBB-ABF3338C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D3C-4EC9-4931-9990-A2F23EB0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BF9D-B779-47BB-9C19-C021B53A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1960-A06A-4F98-9FAD-42C2434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3EA0-E7AB-4B4C-8517-BB5EE56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A806-A19B-4709-9E7B-B5C35F15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2D5F-54D9-4A1D-84F0-3FC90F56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C257-59DD-40F6-8522-E74C8039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89D0-0D4A-4AFC-8A85-9FD00487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D1931-77B0-4791-AF19-BE5953BC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C40EB-3D70-40F8-961C-04322684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9D62C-0716-468A-8361-31B34E2B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1FB-051D-4947-8071-DF27A003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F8C9C-88C5-4591-A549-49011F35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8AD0-630C-4CEE-82F1-E8BEC2F8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0D30-0CED-4452-86E5-E7FE62E3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E3B7-2BE5-4610-8387-A0416410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4FDCE-D8D1-4E38-B2C1-91F64205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FE52-90E3-465F-B034-FFEF4D47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278E5-006D-4FC2-8437-62BAA267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C9B6-84AF-47AB-98E2-E8E37F51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3BFB6-3059-4FA3-9D9A-4D1417F1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ABB79-B5A4-4A24-9513-055B4907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E55-1F88-4CF9-A32D-B1BD8838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FACDC-DE4D-4562-9675-F4CD91A8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326E-E8B9-44DE-91B4-8063C5A4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8AE6-6B2E-43BF-8C73-680A3C10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9B4D3-DE90-4345-911C-677ED624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58E5D-1668-4B6B-8519-D2182DD1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B664B-0E17-4E2F-9FAD-6E8439C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6005-624C-41EB-B4CB-86C5ECC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3F4F8-BB55-40DA-8975-7638C61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B5F1-413E-4BDD-9133-5E18C5AB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6FE4F-217B-4D54-B8F4-E08D7ACC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753-F61A-41FA-8D08-7AA87468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DCD7D-EEB9-40AA-AC8B-A908D839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CE604-3868-4278-84AC-83CF7958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5FBDE-FB29-4FFF-9986-D716F125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711EE-AD7B-4475-B8B4-0F832021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65C00-245C-4076-952D-8B081B81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98CD-AD78-4CE1-9A0D-46E79B5C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EC631-1F5F-402F-A497-EB7A7975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244F1-4C0A-4156-A154-27475E50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28DB6-C10C-4015-BCC3-B726D1CB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1B9B-E348-4306-A935-B76E9F1D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F55-6FCD-4129-A153-7463FD94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12F5-D5F0-4D1C-BBC3-AB1EAB1D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845E8-BDD6-4CA8-900C-9B6C2E06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2A477-7622-40FD-BD1D-85D1985B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1B745-BA8D-4F2C-BFF9-7ADB517A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4B61-048B-4650-B179-D984C09F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C19E8-95AC-4B12-8D64-5B33C9D1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C3AE6-60EB-4A11-A2C4-EB85D0AC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836E8-6001-46CB-BC30-91AF4AA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65E0F-49D9-41E7-A88D-DA498D17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FE067-38A9-4B40-989C-49C0B49D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6B3-2420-48D1-83E3-DEC0E33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915C3-7EFF-437A-A7F9-A9356DB1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02B6F-58FD-4420-B49A-08C51C2E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8089A-D53F-4373-A79E-61330DC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C3B6-C027-43A6-87B5-409C497F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3D5D-C34A-485F-B544-53E86698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56383-3FC2-49AA-A255-6369EECE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BF92D-197D-41DA-B008-4CFD9B9C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0C35B-4AB5-4CBB-B088-F83E0106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5A69B-4FD6-4EDF-A2E7-75DC186D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2E2D3-DD13-47EB-ADA7-A8DF87E9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97C-6588-43E1-AF32-9904CBA6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D5447-9E47-45E9-B057-633F0907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DB258-88DD-4B54-9B80-3F9FDDD5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5B788-F68A-4386-9E79-43C248AD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FAEB4-BBF3-421C-9144-6C465B9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3A48C-4D2C-466A-AF9E-A902D1F7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17C5A-2BF2-4F1A-996C-85EDAC6E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22642-1C62-4280-B07D-7552B9E3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43D53-B73F-4E08-8435-F7262F0E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FC2BE-EE3B-4B8D-BFCB-C4C8EE0A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EBE78-2CF3-460D-8DCC-844FC6AD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76C0-C076-4CEC-987E-720F2C273FA0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3C6B-E16D-47D6-B6B1-905F54042120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0E9C-E246-42BF-915F-6D8729A05C27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6793-B846-4E27-BFD9-1A65EAE762E2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9D4C-2C05-40A5-A2BB-F7936D68D24A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FE80-CB37-4E83-9019-3F4E8285E9DD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4848-6C97-402A-A60E-9140D80A7E15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0C96-8921-4C91-8950-02A46538A75E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38F-0E0A-470E-A213-24CA820D691E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F1FB-C5F1-4C7B-8F62-B291DFFBE5E9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72B1-2DE1-4709-9C79-00B229F60E59}" type="slidenum"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4220640"/>
            <a:ext cx="82087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76360" y="874440"/>
            <a:ext cx="379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 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нерат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гистрат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1116000" y="1890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1"/>
          <p:cNvSpPr/>
          <p:nvPr/>
        </p:nvSpPr>
        <p:spPr>
          <a:xfrm>
            <a:off x="5076720" y="42926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: доцент кафедры ТОМЛ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аневич Мария Серг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ая соединительная линия 2"/>
          <p:cNvSpPr/>
          <p:nvPr/>
        </p:nvSpPr>
        <p:spPr>
          <a:xfrm>
            <a:off x="4513320" y="512640"/>
            <a:ext cx="0" cy="2808360"/>
          </a:xfrm>
          <a:prstGeom prst="line">
            <a:avLst/>
          </a:prstGeom>
          <a:ln w="4752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47520" y="639720"/>
            <a:ext cx="430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Дисципли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УЗЛЫ И ЭЛЕМЕНТЫ БИОТЕХНИЧЕСКИХ 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Рисунок 7" descr=""/>
          <p:cNvPicPr/>
          <p:nvPr/>
        </p:nvPicPr>
        <p:blipFill>
          <a:blip r:embed="rId1"/>
          <a:stretch/>
        </p:blipFill>
        <p:spPr>
          <a:xfrm>
            <a:off x="0" y="3489480"/>
            <a:ext cx="9186840" cy="33764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6"/>
          <p:cNvSpPr/>
          <p:nvPr/>
        </p:nvSpPr>
        <p:spPr>
          <a:xfrm>
            <a:off x="0" y="3495600"/>
            <a:ext cx="4492800" cy="3378240"/>
          </a:xfrm>
          <a:prstGeom prst="rect">
            <a:avLst/>
          </a:prstGeom>
          <a:solidFill>
            <a:srgbClr val="344bf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Прямоугольник 5"/>
          <p:cNvSpPr/>
          <p:nvPr/>
        </p:nvSpPr>
        <p:spPr>
          <a:xfrm>
            <a:off x="-1073160" y="3613320"/>
            <a:ext cx="102600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8960" y="448956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ОР : доцент, к.т.н. Лисаневич М.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тудентов 3 кур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фед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дицинской инженери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AC5A-92FF-4E98-8B71-23191D2B27E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Прямоугольник 22"/>
          <p:cNvSpPr/>
          <p:nvPr/>
        </p:nvSpPr>
        <p:spPr>
          <a:xfrm>
            <a:off x="66600" y="15084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Прямая соединительная линия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оугольник 1"/>
          <p:cNvSpPr/>
          <p:nvPr/>
        </p:nvSpPr>
        <p:spPr>
          <a:xfrm>
            <a:off x="324000" y="1249200"/>
            <a:ext cx="8640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Электросон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генератор соответствующего аппарата создает импульсный ток низкой частоты и малой силы с импульсами прямоугольной формы (аппараты «Электросон»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Диадинамотерап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нератор соответствующего аппарата создает ток с импульсами полусинусоидальной формы (аппарат</a:t>
            </a:r>
            <a:r>
              <a:rPr b="0" lang="ru-RU" sz="18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Тонус»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Электростимуляц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генератор соответствующего прибора создает импульсные токи (в частности, импульсы экспоненциальной формы) для восстановления функции нервно-мышечного аппарата человека  (аппараты АС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6E23-EC77-4046-8BE5-776A3BAB9B4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Прямоугольник 22"/>
          <p:cNvSpPr/>
          <p:nvPr/>
        </p:nvSpPr>
        <p:spPr>
          <a:xfrm>
            <a:off x="595440" y="21744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Прямая соединительная линия 19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Прямоугольник 2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755640" y="1225440"/>
            <a:ext cx="1638360" cy="17496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"/>
          <p:cNvPicPr/>
          <p:nvPr/>
        </p:nvPicPr>
        <p:blipFill>
          <a:blip r:embed="rId2"/>
          <a:stretch/>
        </p:blipFill>
        <p:spPr>
          <a:xfrm>
            <a:off x="5364000" y="1054080"/>
            <a:ext cx="3251520" cy="19209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3"/>
          <a:stretch/>
        </p:blipFill>
        <p:spPr>
          <a:xfrm>
            <a:off x="631800" y="4046400"/>
            <a:ext cx="2016000" cy="20178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"/>
          <p:cNvPicPr/>
          <p:nvPr/>
        </p:nvPicPr>
        <p:blipFill>
          <a:blip r:embed="rId4"/>
          <a:srcRect l="0" t="18753" r="0" b="12504"/>
          <a:stretch/>
        </p:blipFill>
        <p:spPr>
          <a:xfrm>
            <a:off x="5724360" y="3933720"/>
            <a:ext cx="2698920" cy="18558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1"/>
          <p:cNvSpPr/>
          <p:nvPr/>
        </p:nvSpPr>
        <p:spPr>
          <a:xfrm>
            <a:off x="-711360" y="306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ппарат дл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плипульстерап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5648760" y="3038400"/>
            <a:ext cx="250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ар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04920" y="5946840"/>
            <a:ext cx="30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арат Электро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6002280" y="5938920"/>
            <a:ext cx="21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арат УВ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E0B6-C694-49F5-B643-691427B4FDA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Прямоугольник 1"/>
          <p:cNvSpPr/>
          <p:nvPr/>
        </p:nvSpPr>
        <p:spPr>
          <a:xfrm>
            <a:off x="42840" y="540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ройства отображения и регистрации медицинской информации. Регистрат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Прямая соединительная линия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Прямоугольник 1"/>
          <p:cNvSpPr/>
          <p:nvPr/>
        </p:nvSpPr>
        <p:spPr>
          <a:xfrm>
            <a:off x="343080" y="985680"/>
            <a:ext cx="79628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е требования к медицинским устройствам отображения и регистрации информации (УОР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Минимальная погреш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Минимальная потребляемая мощ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Высокая чувствите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Большой динамический диапазон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Максимальный частотный диапазон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Сохранение информации после регистр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Удобство считывания информ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Минимальные габариты и масс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 Простота и надёж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ОР бывают трех видов: аналоговые; дискретные; комбинирова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50" name="Прямая со стрелкой 29"/>
          <p:cNvCxnSpPr/>
          <p:nvPr/>
        </p:nvCxnSpPr>
        <p:spPr>
          <a:xfrm>
            <a:off x="4189320" y="2709720"/>
            <a:ext cx="8640" cy="3004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1" name="TextBox 1"/>
          <p:cNvGrpSpPr/>
          <p:nvPr/>
        </p:nvGrpSpPr>
        <p:grpSpPr>
          <a:xfrm>
            <a:off x="3346560" y="884160"/>
            <a:ext cx="1701720" cy="700200"/>
            <a:chOff x="3346560" y="884160"/>
            <a:chExt cx="1701720" cy="700200"/>
          </a:xfrm>
        </p:grpSpPr>
        <p:pic>
          <p:nvPicPr>
            <p:cNvPr id="652" name="TextBox 1" descr=""/>
            <p:cNvPicPr/>
            <p:nvPr/>
          </p:nvPicPr>
          <p:blipFill>
            <a:blip r:embed="rId1"/>
            <a:stretch/>
          </p:blipFill>
          <p:spPr>
            <a:xfrm>
              <a:off x="3346560" y="884160"/>
              <a:ext cx="17017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3373560" y="909720"/>
              <a:ext cx="164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Аналоговые регистрато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4" name="Прямая со стрелкой 4"/>
          <p:cNvCxnSpPr/>
          <p:nvPr/>
        </p:nvCxnSpPr>
        <p:spPr>
          <a:xfrm flipH="1">
            <a:off x="2641320" y="1581120"/>
            <a:ext cx="784800" cy="50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Прямая со стрелкой 5"/>
          <p:cNvCxnSpPr/>
          <p:nvPr/>
        </p:nvCxnSpPr>
        <p:spPr>
          <a:xfrm>
            <a:off x="5021280" y="1547640"/>
            <a:ext cx="145008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Прямая со стрелкой 8"/>
          <p:cNvCxnSpPr>
            <a:stCxn id="652" idx="2"/>
          </p:cNvCxnSpPr>
          <p:nvPr/>
        </p:nvCxnSpPr>
        <p:spPr>
          <a:xfrm>
            <a:off x="4196880" y="1555920"/>
            <a:ext cx="1080" cy="543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7" name="Прямоугольник 11"/>
          <p:cNvGrpSpPr/>
          <p:nvPr/>
        </p:nvGrpSpPr>
        <p:grpSpPr>
          <a:xfrm>
            <a:off x="225360" y="2048040"/>
            <a:ext cx="2444760" cy="701640"/>
            <a:chOff x="225360" y="2048040"/>
            <a:chExt cx="2444760" cy="701640"/>
          </a:xfrm>
        </p:grpSpPr>
        <p:pic>
          <p:nvPicPr>
            <p:cNvPr id="658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25360" y="2048040"/>
              <a:ext cx="24447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250920" y="2076480"/>
              <a:ext cx="23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веточувствительные (фотобумага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Прямоугольник 12"/>
          <p:cNvGrpSpPr/>
          <p:nvPr/>
        </p:nvGrpSpPr>
        <p:grpSpPr>
          <a:xfrm>
            <a:off x="3224160" y="2054160"/>
            <a:ext cx="1970280" cy="701640"/>
            <a:chOff x="3224160" y="2054160"/>
            <a:chExt cx="1970280" cy="701640"/>
          </a:xfrm>
        </p:grpSpPr>
        <p:pic>
          <p:nvPicPr>
            <p:cNvPr id="66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3224160" y="2054160"/>
              <a:ext cx="19702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3249720" y="2082960"/>
              <a:ext cx="19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амопишущ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Прямоугольник 13"/>
          <p:cNvGrpSpPr/>
          <p:nvPr/>
        </p:nvGrpSpPr>
        <p:grpSpPr>
          <a:xfrm>
            <a:off x="5718240" y="2048040"/>
            <a:ext cx="3328920" cy="701640"/>
            <a:chOff x="5718240" y="2048040"/>
            <a:chExt cx="3328920" cy="701640"/>
          </a:xfrm>
        </p:grpSpPr>
        <p:pic>
          <p:nvPicPr>
            <p:cNvPr id="664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5718240" y="2048040"/>
              <a:ext cx="33289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5745240" y="2076480"/>
              <a:ext cx="32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казывающие (осциллограф, стрелочные приборы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Прямоугольник 24"/>
          <p:cNvGrpSpPr/>
          <p:nvPr/>
        </p:nvGrpSpPr>
        <p:grpSpPr>
          <a:xfrm>
            <a:off x="3249720" y="5041800"/>
            <a:ext cx="1981080" cy="700200"/>
            <a:chOff x="3249720" y="5041800"/>
            <a:chExt cx="1981080" cy="700200"/>
          </a:xfrm>
        </p:grpSpPr>
        <p:pic>
          <p:nvPicPr>
            <p:cNvPr id="667" name="Прямоугольник 24" descr=""/>
            <p:cNvPicPr/>
            <p:nvPr/>
          </p:nvPicPr>
          <p:blipFill>
            <a:blip r:embed="rId5"/>
            <a:stretch/>
          </p:blipFill>
          <p:spPr>
            <a:xfrm>
              <a:off x="3249720" y="5041800"/>
              <a:ext cx="19810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3274920" y="5067360"/>
              <a:ext cx="192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ерьевые (до 150 Гц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Прямоугольник 25"/>
          <p:cNvGrpSpPr/>
          <p:nvPr/>
        </p:nvGrpSpPr>
        <p:grpSpPr>
          <a:xfrm>
            <a:off x="3224160" y="4145040"/>
            <a:ext cx="1981080" cy="701640"/>
            <a:chOff x="3224160" y="4145040"/>
            <a:chExt cx="1981080" cy="701640"/>
          </a:xfrm>
        </p:grpSpPr>
        <p:pic>
          <p:nvPicPr>
            <p:cNvPr id="670" name="Прямоугольник 25" descr=""/>
            <p:cNvPicPr/>
            <p:nvPr/>
          </p:nvPicPr>
          <p:blipFill>
            <a:blip r:embed="rId6"/>
            <a:stretch/>
          </p:blipFill>
          <p:spPr>
            <a:xfrm>
              <a:off x="3224160" y="4145040"/>
              <a:ext cx="19810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3254400" y="4173480"/>
              <a:ext cx="192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труйные (до 700 Гц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Прямоугольник 26"/>
          <p:cNvGrpSpPr/>
          <p:nvPr/>
        </p:nvGrpSpPr>
        <p:grpSpPr>
          <a:xfrm>
            <a:off x="3230640" y="3529080"/>
            <a:ext cx="1981080" cy="426960"/>
            <a:chOff x="3230640" y="3529080"/>
            <a:chExt cx="1981080" cy="426960"/>
          </a:xfrm>
        </p:grpSpPr>
        <p:pic>
          <p:nvPicPr>
            <p:cNvPr id="673" name="Прямоугольник 26" descr=""/>
            <p:cNvPicPr/>
            <p:nvPr/>
          </p:nvPicPr>
          <p:blipFill>
            <a:blip r:embed="rId7"/>
            <a:stretch/>
          </p:blipFill>
          <p:spPr>
            <a:xfrm>
              <a:off x="3230640" y="3529080"/>
              <a:ext cx="19810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3259080" y="3556080"/>
              <a:ext cx="192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Тепловы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Прямоугольник 27"/>
          <p:cNvGrpSpPr/>
          <p:nvPr/>
        </p:nvGrpSpPr>
        <p:grpSpPr>
          <a:xfrm>
            <a:off x="3224160" y="2955960"/>
            <a:ext cx="1987560" cy="420480"/>
            <a:chOff x="3224160" y="2955960"/>
            <a:chExt cx="1987560" cy="420480"/>
          </a:xfrm>
        </p:grpSpPr>
        <p:pic>
          <p:nvPicPr>
            <p:cNvPr id="676" name="Прямоугольник 27" descr=""/>
            <p:cNvPicPr/>
            <p:nvPr/>
          </p:nvPicPr>
          <p:blipFill>
            <a:blip r:embed="rId8"/>
            <a:stretch/>
          </p:blipFill>
          <p:spPr>
            <a:xfrm>
              <a:off x="3224160" y="2955960"/>
              <a:ext cx="19875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3249720" y="2981160"/>
              <a:ext cx="193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Магнитны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Прямоугольник 16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Прямая соединительная линия 1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Прямоугольник 1"/>
          <p:cNvSpPr/>
          <p:nvPr/>
        </p:nvSpPr>
        <p:spPr>
          <a:xfrm>
            <a:off x="42840" y="540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140B-425F-4F94-B4F2-E38AF347DCC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Прямоугольник 1"/>
          <p:cNvSpPr/>
          <p:nvPr/>
        </p:nvSpPr>
        <p:spPr>
          <a:xfrm>
            <a:off x="42840" y="540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овый регистра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Прямая соединительная линия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Прямоугольник 1"/>
          <p:cNvSpPr/>
          <p:nvPr/>
        </p:nvSpPr>
        <p:spPr>
          <a:xfrm>
            <a:off x="115920" y="1077840"/>
            <a:ext cx="849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8" descr="самописец"/>
          <p:cNvPicPr/>
          <p:nvPr/>
        </p:nvPicPr>
        <p:blipFill>
          <a:blip r:embed="rId1"/>
          <a:stretch/>
        </p:blipFill>
        <p:spPr>
          <a:xfrm>
            <a:off x="2340000" y="981000"/>
            <a:ext cx="4103640" cy="3517920"/>
          </a:xfrm>
          <a:prstGeom prst="rect">
            <a:avLst/>
          </a:prstGeom>
          <a:ln w="0">
            <a:noFill/>
          </a:ln>
        </p:spPr>
      </p:pic>
      <p:sp>
        <p:nvSpPr>
          <p:cNvPr id="698" name="Прямоугольник 2"/>
          <p:cNvSpPr/>
          <p:nvPr/>
        </p:nvSpPr>
        <p:spPr>
          <a:xfrm>
            <a:off x="2340000" y="41450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а струйного самопис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– электромагнит, через обмотки котор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ходит регистрируемый биопотенциал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– постоянный магни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3 – стеклян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капилля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– сопло капилля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7D59-C455-46FB-8936-D062CB0F956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Прямоугольник 1"/>
          <p:cNvSpPr/>
          <p:nvPr/>
        </p:nvSpPr>
        <p:spPr>
          <a:xfrm>
            <a:off x="92160" y="11448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НОСТЬ МЕДИЦИНСКОЙ АППАРА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Прямая соединительная линия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Прямоугольник 1"/>
          <p:cNvSpPr/>
          <p:nvPr/>
        </p:nvSpPr>
        <p:spPr>
          <a:xfrm>
            <a:off x="115920" y="1077840"/>
            <a:ext cx="849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Прямоугольник 2"/>
          <p:cNvSpPr/>
          <p:nvPr/>
        </p:nvSpPr>
        <p:spPr>
          <a:xfrm>
            <a:off x="92160" y="933480"/>
            <a:ext cx="8920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способность изделия не отказывать в работе в заданных условиях эксплуатации и сохранять свою работоспособность в течение заданного интервала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оятность безотказной рабо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отношение числа N(t) работающих (не испортившихся) за время t изделий к общему числу N0 испытывавшихся издел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4"/>
              <p:cNvSpPr txBox="1"/>
              <p:nvPr/>
            </p:nvSpPr>
            <p:spPr>
              <a:xfrm>
                <a:off x="3382920" y="4749840"/>
                <a:ext cx="237816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406-0F92-4868-82D4-4C30D5E4C0B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Прямая соединительная линия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Прямоугольник 1"/>
          <p:cNvSpPr/>
          <p:nvPr/>
        </p:nvSpPr>
        <p:spPr>
          <a:xfrm>
            <a:off x="4497480" y="1793880"/>
            <a:ext cx="849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Прямоугольник 2"/>
          <p:cNvSpPr/>
          <p:nvPr/>
        </p:nvSpPr>
        <p:spPr>
          <a:xfrm>
            <a:off x="468360" y="11700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нсивность отказо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ношение числа отказов dN к произведению времени dt на общее число работающих элемент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Прямоугольник 3"/>
          <p:cNvSpPr/>
          <p:nvPr/>
        </p:nvSpPr>
        <p:spPr>
          <a:xfrm>
            <a:off x="2714400" y="182520"/>
            <a:ext cx="39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НСИВНОСТЬ ОТКАЗ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Object 4"/>
              <p:cNvSpPr txBox="1"/>
              <p:nvPr/>
            </p:nvSpPr>
            <p:spPr>
              <a:xfrm>
                <a:off x="2700360" y="2249640"/>
                <a:ext cx="19429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35" name="Picture 6" descr=""/>
          <p:cNvPicPr/>
          <p:nvPr/>
        </p:nvPicPr>
        <p:blipFill>
          <a:blip r:embed="rId1"/>
          <a:stretch/>
        </p:blipFill>
        <p:spPr>
          <a:xfrm>
            <a:off x="2195640" y="3708360"/>
            <a:ext cx="3240000" cy="2355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DEB1-A426-4768-97D3-361DF79D672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Прямая соединительная линия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Прямоугольник 1"/>
          <p:cNvSpPr/>
          <p:nvPr/>
        </p:nvSpPr>
        <p:spPr>
          <a:xfrm>
            <a:off x="4497480" y="1793880"/>
            <a:ext cx="849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Прямоугольник 2"/>
          <p:cNvSpPr/>
          <p:nvPr/>
        </p:nvSpPr>
        <p:spPr>
          <a:xfrm>
            <a:off x="468360" y="1170000"/>
            <a:ext cx="821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тельное значение измеряемой величины может отличатся от полученного из опыта значения. Это может быть обусловленно несовершенством технологии изготовления прибора, конструктивными недостатками, неправильной градуировкой, влиянием различных внешних фа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Прямоугольник 3"/>
          <p:cNvSpPr/>
          <p:nvPr/>
        </p:nvSpPr>
        <p:spPr>
          <a:xfrm>
            <a:off x="2700000" y="182520"/>
            <a:ext cx="35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ГРЕШНОСТЬ ПРИБ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27E6-E36A-4D0C-B6F4-9A2ABAD1A58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Прямоугольник 1"/>
          <p:cNvSpPr/>
          <p:nvPr/>
        </p:nvSpPr>
        <p:spPr>
          <a:xfrm>
            <a:off x="222120" y="1731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медицинской аппаратуры по возможным последствиям отказов в процессе эксплуат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Прямая соединительная линия 17"/>
          <p:cNvSpPr/>
          <p:nvPr/>
        </p:nvSpPr>
        <p:spPr>
          <a:xfrm>
            <a:off x="0" y="102060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Прямоугольник 2"/>
          <p:cNvSpPr/>
          <p:nvPr/>
        </p:nvSpPr>
        <p:spPr>
          <a:xfrm>
            <a:off x="222120" y="1165320"/>
            <a:ext cx="8813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зделия, отказ которых представляет непосредственную опасность для жизни пациента или персон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роятность безотказной работы изделий -не менее 0,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4bf6"/>
                </a:solidFill>
                <a:latin typeface="Times New Roman"/>
              </a:rPr>
              <a:t>К изделиям класса А относятся приборы для наблюдения за жизненно важными функциями больного (аппараты искусственного дыхания, кровообращения и т.п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30A3-611F-42E2-9F8C-CD17F28034B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Прямоугольник 1"/>
          <p:cNvSpPr/>
          <p:nvPr/>
        </p:nvSpPr>
        <p:spPr>
          <a:xfrm>
            <a:off x="249120" y="14400"/>
            <a:ext cx="864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ассификация медицинской аппаратуры по возможным последствиям отказов в процессе эксплуат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Прямая соединительная линия 18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Прямоугольник 19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Прямоугольник 2"/>
          <p:cNvSpPr/>
          <p:nvPr/>
        </p:nvSpPr>
        <p:spPr>
          <a:xfrm>
            <a:off x="108000" y="1125360"/>
            <a:ext cx="90360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изделия, отказ которых вызывает искажения информации о состоянии больного или  окружающей среды, не приводящее к непосредственной опасности для жизни пациента или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роятность безотказной работы -не менее 0,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4bf6"/>
                </a:solidFill>
                <a:latin typeface="Times New Roman"/>
              </a:rPr>
              <a:t>К изделиям класса Б относятся системы, следящие за больным, аппараты для стимуляции сердечной деятельности и др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зделия, отказ которых снижает эффективность или задерживает лечебно-диагностический процесс, либо повышает нагрузку на медицинский или обслуживающий персона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44bf6"/>
                </a:solidFill>
                <a:latin typeface="Times New Roman"/>
              </a:rPr>
              <a:t>К этому классу относится большая часть диагностической и физиотерапевтической аппаратуры, инструментарий 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изделия, не содержащие отказоспособных час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нерат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Прямоугольник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Прямая соединительная линия 5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Прямоугольник 2"/>
          <p:cNvSpPr/>
          <p:nvPr/>
        </p:nvSpPr>
        <p:spPr>
          <a:xfrm>
            <a:off x="185760" y="1197000"/>
            <a:ext cx="82803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alibri"/>
                <a:ea typeface="Times New Roman"/>
              </a:rPr>
              <a:t>Генератор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устройства, которые преобразуют энергию источников постоянного напряжения в энергию электромагнитных колебаний различной фор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ассификация генерато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форме сигнала: генератор гармонических колебаний и генератор колебаний специальной формы (импульсные колеба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частоте сигна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мощ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"/>
              <a:tabLst>
                <a:tab algn="l" pos="42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принципу работы (генератор с самовозбуждением и генератор с внешним возбуждением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16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D632-99B9-4104-8A0E-84EC4E54E80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1"/>
          <p:cNvSpPr/>
          <p:nvPr/>
        </p:nvSpPr>
        <p:spPr>
          <a:xfrm>
            <a:off x="195120" y="2412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ЛЬТ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428760" y="1666800"/>
            <a:ext cx="817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ы также подразделяют по частоте и мощности колебаний. В медицине электронные генераторы находят три основных примен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в физиотерапевтической электронной аппаратур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в электронных стимулятор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в отдельных диагностических приборах, например в реограф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оугольник 1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Прямая соединительная линия 18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Номер слайда 16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97CD-CA3E-427F-A838-B6D9464D94D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Прямоугольник 1"/>
          <p:cNvSpPr/>
          <p:nvPr/>
        </p:nvSpPr>
        <p:spPr>
          <a:xfrm>
            <a:off x="195120" y="24120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ТОР ГАРМОНИЧЕСКИХ КОЛЕБАНИЙ НА ТРАНЗИС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Прямоугольник 1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Прямая соединительная линия 18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91200" cy="39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Номер слайда 16"/>
          <p:cNvSpPr/>
          <p:nvPr/>
        </p:nvSpPr>
        <p:spPr>
          <a:xfrm>
            <a:off x="8172360" y="635652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75A0-9195-426D-8789-D1EDD418EC5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Прямоугольник 1"/>
          <p:cNvSpPr/>
          <p:nvPr/>
        </p:nvSpPr>
        <p:spPr>
          <a:xfrm>
            <a:off x="249120" y="264960"/>
            <a:ext cx="86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ТОР ГАРМОНИЧЕСКИХ КОЛЕБАНИЙ НА ТРАНЗИС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Прямоугольник 1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Прямая соединительная линия 18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2"/>
          <p:cNvSpPr/>
          <p:nvPr/>
        </p:nvSpPr>
        <p:spPr>
          <a:xfrm>
            <a:off x="686520" y="155736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539640" y="2425680"/>
            <a:ext cx="2598840" cy="1963800"/>
          </a:xfrm>
          <a:prstGeom prst="rect">
            <a:avLst/>
          </a:prstGeom>
          <a:ln w="0">
            <a:noFill/>
          </a:ln>
        </p:spPr>
      </p:pic>
      <p:sp>
        <p:nvSpPr>
          <p:cNvPr id="518" name="Овал 3"/>
          <p:cNvSpPr/>
          <p:nvPr/>
        </p:nvSpPr>
        <p:spPr>
          <a:xfrm>
            <a:off x="2540160" y="3325680"/>
            <a:ext cx="287280" cy="319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Рисунок 5" descr=""/>
          <p:cNvPicPr/>
          <p:nvPr/>
        </p:nvPicPr>
        <p:blipFill>
          <a:blip r:embed="rId2"/>
          <a:stretch/>
        </p:blipFill>
        <p:spPr>
          <a:xfrm>
            <a:off x="3603600" y="1465200"/>
            <a:ext cx="4640400" cy="4464000"/>
          </a:xfrm>
          <a:prstGeom prst="rect">
            <a:avLst/>
          </a:prstGeom>
          <a:ln w="0">
            <a:noFill/>
          </a:ln>
        </p:spPr>
      </p:pic>
      <p:sp>
        <p:nvSpPr>
          <p:cNvPr id="520" name="TextBox 6"/>
          <p:cNvSpPr/>
          <p:nvPr/>
        </p:nvSpPr>
        <p:spPr>
          <a:xfrm>
            <a:off x="3569400" y="135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Прямая соединительная линия 8"/>
          <p:cNvSpPr/>
          <p:nvPr/>
        </p:nvSpPr>
        <p:spPr>
          <a:xfrm>
            <a:off x="4859280" y="3860640"/>
            <a:ext cx="0" cy="1513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4680360" y="537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Прямая соединительная линия 12"/>
          <p:cNvSpPr/>
          <p:nvPr/>
        </p:nvSpPr>
        <p:spPr>
          <a:xfrm>
            <a:off x="5138640" y="3189240"/>
            <a:ext cx="0" cy="2184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5024520" y="5384880"/>
            <a:ext cx="4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Прямоугольник 14"/>
          <p:cNvSpPr/>
          <p:nvPr/>
        </p:nvSpPr>
        <p:spPr>
          <a:xfrm>
            <a:off x="7956720" y="1353960"/>
            <a:ext cx="7300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93C5-3218-4EE3-B5BE-7859C7FB7DD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Прямоугольник 1"/>
          <p:cNvSpPr/>
          <p:nvPr/>
        </p:nvSpPr>
        <p:spPr>
          <a:xfrm>
            <a:off x="42840" y="54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ТОР ГАРМОНИЧЕСКИХ КОЛЕБАНИЙ НА ТРАНЗИС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Прямая соединительная линия 17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Рисунок 2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6962760" cy="254304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19" descr=""/>
          <p:cNvPicPr/>
          <p:nvPr/>
        </p:nvPicPr>
        <p:blipFill>
          <a:blip r:embed="rId2"/>
          <a:stretch/>
        </p:blipFill>
        <p:spPr>
          <a:xfrm>
            <a:off x="2911320" y="942840"/>
            <a:ext cx="3083040" cy="221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2A78-06DE-4269-8C6E-0430B2E84E7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Прямоугольник 1"/>
          <p:cNvSpPr/>
          <p:nvPr/>
        </p:nvSpPr>
        <p:spPr>
          <a:xfrm>
            <a:off x="42840" y="5400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ная схема генератора сигн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Прямая соединительная линия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756144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DB3-F595-47E8-AAD3-6E0EC2E4668A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Прямоугольник 22"/>
          <p:cNvSpPr/>
          <p:nvPr/>
        </p:nvSpPr>
        <p:spPr>
          <a:xfrm>
            <a:off x="66600" y="15084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ы гармонических колеб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Прямая соединительная линия 1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Прямоугольник 1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Рисунок 16" descr=""/>
          <p:cNvPicPr/>
          <p:nvPr/>
        </p:nvPicPr>
        <p:blipFill>
          <a:blip r:embed="rId1"/>
          <a:stretch/>
        </p:blipFill>
        <p:spPr>
          <a:xfrm>
            <a:off x="222120" y="1027080"/>
            <a:ext cx="4741920" cy="287172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19" descr=""/>
          <p:cNvPicPr/>
          <p:nvPr/>
        </p:nvPicPr>
        <p:blipFill>
          <a:blip r:embed="rId2"/>
          <a:stretch/>
        </p:blipFill>
        <p:spPr>
          <a:xfrm>
            <a:off x="3564000" y="3898800"/>
            <a:ext cx="5122800" cy="231480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"/>
          <p:cNvSpPr/>
          <p:nvPr/>
        </p:nvSpPr>
        <p:spPr>
          <a:xfrm>
            <a:off x="5730840" y="33735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ст В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2"/>
          <p:cNvSpPr/>
          <p:nvPr/>
        </p:nvSpPr>
        <p:spPr>
          <a:xfrm>
            <a:off x="425880" y="906480"/>
            <a:ext cx="43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RC-генератор с мостом Вина – Робинсо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222120" y="6567480"/>
            <a:ext cx="80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Arial"/>
                <a:ea typeface="Times New Roman"/>
              </a:rPr>
              <a:t>УиЭМ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и электро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86AE-4B44-4220-9739-0EEEE06BE3A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Прямоугольник 22"/>
          <p:cNvSpPr/>
          <p:nvPr/>
        </p:nvSpPr>
        <p:spPr>
          <a:xfrm>
            <a:off x="-34920" y="1573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Прямая соединительная линия 2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44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Прямоугольник 2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44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УиЭБС Л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Прямоугольник 1"/>
          <p:cNvSpPr/>
          <p:nvPr/>
        </p:nvSpPr>
        <p:spPr>
          <a:xfrm>
            <a:off x="287280" y="874800"/>
            <a:ext cx="8569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нераторы релаксационных колебаний  используются 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мплипульстерапии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люктуоризации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ппарате «Электросон»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иадинамотерапии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лектростимуляци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Прямоугольник 2"/>
          <p:cNvSpPr/>
          <p:nvPr/>
        </p:nvSpPr>
        <p:spPr>
          <a:xfrm>
            <a:off x="295200" y="2478240"/>
            <a:ext cx="8425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Амплипульстерапия</a:t>
            </a: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генератор соответствующего аппарата создает синусоидальные токи на частоте 5000 Гц, модулированные по амплитуде низкой частотой в пределах 10-150 Гц (аппараты «Стимул»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Times New Roman"/>
              </a:rPr>
              <a:t>Флюктуоризация</a:t>
            </a:r>
            <a:r>
              <a:rPr b="0" i="1" lang="ru-RU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генератор соответствующего аппарата создает синусоидальный ток малой силы и небольшого напряжения, беспорядочно меняющегося по амплитуде и частоте в пределах 100-2000 Гц. Использование таких токов уменьшает вероятность привыкания тканей к раздражителю (аппараты снятия</a:t>
            </a:r>
            <a:r>
              <a:rPr b="0" lang="ru-RU" sz="18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и — АСБ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PC</dc:creator>
  <dc:description/>
  <dc:language>en-US</dc:language>
  <cp:lastModifiedBy>Home-2</cp:lastModifiedBy>
  <cp:lastPrinted>2014-02-25T10:50:40Z</cp:lastPrinted>
  <dcterms:modified xsi:type="dcterms:W3CDTF">2020-05-18T12:51:00Z</dcterms:modified>
  <cp:revision>245</cp:revision>
  <dc:subject/>
  <dc:title>Презентация PowerPoint</dc:title>
</cp:coreProperties>
</file>