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19D8-F785-4C5A-8D4A-877E819C26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4BAB-F5D7-4556-8A51-C4794FBF82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348E-E1CD-41F1-A6BA-28FE7A88AE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46F-D8D1-477C-A609-55748EC7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A4B-697D-4EEC-BCA3-7E50D41D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8BDA7-7007-4881-80DC-6774920A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4B1C6-6EBF-4FB3-9A72-F79E90C4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F70CC-1697-4548-ABAE-29EC85F9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D78F4-C251-4DEE-BF56-BAE22054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9C775-2E31-4EB9-8590-36320DB5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F845C-D339-4471-929D-E1504508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37BB4-DCF4-4C5F-8CA0-7929A6C1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8D8A7-5EA1-4B2B-80A9-98ECDB28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EC94F-73C8-4CA9-A7C1-2DD4598E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0C2CD-A7C3-4610-99A0-25C53DEE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587-CAFD-4EBF-9CEC-CD3F75E7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B5938-9BFD-4488-A1C2-FB71AB88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BF1CC-55E5-4967-9F63-0BC7ED67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CD54A-4F9C-4389-AD3E-467F8856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7AF2B-58AD-472A-A972-44FE6C65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19056-D976-4565-AAAB-79921525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1E912-DDF7-434A-B362-53DB19FF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8D8DB-5FCA-4C71-889B-87558369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8C284-1DE7-41B9-83CA-074CC234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432C9-2BA6-4AD8-ABA7-DBEA9E3E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314E9-C51F-4983-B71F-24A01EB4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DAB-3D0B-4F91-9B2D-48BF8FF3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90600-6F7B-473B-A9C5-0B59F12B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E363E-8477-4B3C-AD82-E492EA79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50BE5-343C-454E-8A29-90BA4F21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8964B-28E9-49C6-B07E-FA5E0A58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DBB13-D894-4D92-B5B0-F6A61A4B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9880E-5864-4D45-A567-BFB7B193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E6D82-133F-44CC-8CA9-06344EAE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CC511-29D0-4715-AB4C-12B779A4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C302B-4812-43B6-A31D-3F8EE4FA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E3E44-9330-4FF8-BDD4-FD3C507E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9EB4-DD85-47CC-8C91-10ED8D35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2957F-920E-44E3-8680-D5A8A72F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42149-CA23-4AB7-B1EF-0DA7F34A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CADD7-3E4E-4FDF-A945-EB342C0E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6CC5-6E18-4EA8-910E-573721D0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BFDC-D512-469D-ADED-B6832776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5A0B-6A7A-4DDD-A981-B17C23DD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D618-4E23-42ED-966A-D0EFE94F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5121-658F-4604-808F-EC0B0200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62E8-6DE6-4901-9A5D-45873D97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AA5-4399-407B-B02E-EA124390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1EC6-67AF-4248-AEB7-F5878493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B30C-DABC-40DF-BBCB-0A3FD1CA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44B4-D758-471E-A30F-B383CD54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1A35-8BCE-433D-84F0-3C39A5E4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A606-AC43-434E-A7AA-87D56CAE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1C3B3-E95F-4347-A085-A448BDBE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2C52D-B6E3-4BCD-ABF6-E0C6105C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C8326-44D4-4A89-8637-5C405F2C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1B2CA-EF23-4377-9687-8164EA6F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AE489-7E2A-4D80-849A-2D87060E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A1F-4D46-48B1-9CE7-ED782EC3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585CE-D35C-4899-86B2-654AB36D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D9E06-31F2-40ED-A7CF-F5CE0853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22121-D006-437E-B449-5E72E839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F23C-31B9-4267-8BBF-D587BA60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B8A9C-DA0C-41F1-B824-5EAB30C1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2442-5376-472B-A3BC-4B18502F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D1035-632F-4366-8690-EDBC19DB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F0500-074D-45D1-BBF6-EED98387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C13DA-9143-4F6B-BF8C-4305BC41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A9146-0E19-42B8-B99C-1ECB8281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E6B-43A0-4F0C-BF0B-197F616E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92A2A-098B-4973-A402-2B6F7D3B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786EC-E082-4B40-886A-3D1F3687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359BB-E795-44DB-ACBF-ECDBC17C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F2F95-43F9-4AFA-ADDF-FF8A60CB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5D38-6237-4AAE-8F44-BDEDB5CB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147A7-69C7-4ACB-9145-BFA21AEE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A7E03-E511-47C6-9C13-928AA0EA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547C7-8E71-4C88-B1FA-9F39D569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D5341-5913-458F-BD44-82054BF3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CB83D-0010-41BA-9FC3-0008A8E6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AF2-4AE9-49AC-972B-00D1C488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62CE8-118F-406A-B6CB-3E145E64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03367-381C-4AE8-A57C-5E5619D7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C44EB-EB7F-48C7-B5E8-41509130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6CE3F-BA63-4902-9A2B-D8F05D9E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98366-6228-4265-BE7D-B9BDAA83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38B06-4714-4286-8C99-08D0C8CE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22D03-0CF9-4AE0-ABA8-B3F228A2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0BACD-F723-49CB-8175-CC16ED85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E64D9-BB8B-4A4C-9976-BA4BF0A8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C4A06-CB03-45BD-B16B-EC3FF69F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46A6-DF26-4A7E-906E-A2668D70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6B759-AC44-4C39-927D-A5F7BEA6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1D873-75D8-4159-9068-3676FFC7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15200-9284-4EB6-B158-0C315F8A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101F8-7004-4F95-B7DD-37733802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E8AD6-2CE2-4CF0-A688-4C586450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D22AD-1CE4-4724-B64F-84EA022F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0887C-BE32-413C-98DF-B73867AD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20E62-4C2F-492E-861E-AF4DADF6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61661-F210-4B7F-9EE7-700D0CCC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521EA-D730-4439-9DCD-D610F819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254-D27C-4AC0-BA2F-CD509923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A0AB8-8601-4623-A221-4DE61B26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46830-7754-4FB4-8A3F-6A6036F3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16D46-B989-48B8-9C0A-D8ED626D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A00EC-85AD-4345-AE3C-5719AC06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11F8A-D6F0-4608-B883-CE04795D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9912E-67A0-47EF-A4E2-8553313D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DF3BC-236D-4DF7-8355-9E11E74A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F4C1B-D438-4110-B8A9-4CC198D2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49CD6-F59C-49FB-A937-0406552F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6F5B4-D80F-4DCF-8080-591216D4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633-9714-4E2A-9AA3-DC1515A7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4921F-F8D1-4A73-B32B-C712D061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13FB7-AAF8-4CB9-8A9E-85B8EEB3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3FE6C-4328-45C4-8CB9-AE4627DC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4E841-38DF-43AB-BFD3-B78DC344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0B180-9FA4-4105-842E-6329F459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CF429-0458-493B-A60E-947C9AEF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04794-0EEB-4609-9A19-722C2BE8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AB8F0-887C-4910-BD86-53080738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0A165-9D4F-410C-8B65-EE4D7972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4932C-B022-4317-A55B-8BA49EA7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746-8D21-4807-A8D0-451BADE9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12C38-324B-4E95-AAD5-56E13D82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7B783-BC5F-4419-928C-671052B7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89B0A-0392-4F7E-8143-46EF0F5D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42C65-DC0F-4BAC-9302-30A96EE6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240CF-D174-4A4B-8564-792881FA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20FB6-6A93-4F65-82C7-C54B86FD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0FAA8-CC3A-400D-9D7A-534701B8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D87D4-4920-4BD4-96A2-C9181371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29913-A60D-4348-B984-7527171D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2016C-0236-490F-B7CC-0B8C71E4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40FE-1C0D-49AF-8EE0-28FF4F7DDA8A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3572-8578-4CC9-8E20-54D0578F904C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C365-B995-4DFA-9C7A-727BC74AC3C5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6188-79B4-4C6B-BB92-6FF4C8D1F465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2269-F5FB-493A-8426-708AA6E8A65E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1954-E4A7-4CA9-99B4-8D6406694E86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F6C1-79DC-4B1D-A491-0C8935006591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BF52-9C48-493E-9D0C-179529626C22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D338-2A07-4ED1-BFB3-4BD29A886363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05C7-D4AC-4E5C-B448-95DB173631B2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5615-0689-40BB-9269-42BD0F160C26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4220640"/>
            <a:ext cx="820872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076360" y="874440"/>
            <a:ext cx="37911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 : Усилите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1116000" y="189000"/>
            <a:ext cx="69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Box 1"/>
          <p:cNvSpPr/>
          <p:nvPr/>
        </p:nvSpPr>
        <p:spPr>
          <a:xfrm>
            <a:off x="5076720" y="429264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тор: доцент кафедры ТОМЛ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аневич Мария Серг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ая соединительная линия 2"/>
          <p:cNvSpPr/>
          <p:nvPr/>
        </p:nvSpPr>
        <p:spPr>
          <a:xfrm>
            <a:off x="4513320" y="512640"/>
            <a:ext cx="0" cy="2808360"/>
          </a:xfrm>
          <a:prstGeom prst="line">
            <a:avLst/>
          </a:prstGeom>
          <a:ln w="4752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4"/>
          <p:cNvSpPr/>
          <p:nvPr/>
        </p:nvSpPr>
        <p:spPr>
          <a:xfrm>
            <a:off x="250920" y="639720"/>
            <a:ext cx="3578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Дисципли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УЗЛЫ И ЭЛЕМЕНТЫ МЕДИЦИНСКОЙ ТЕ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Рисунок 7" descr=""/>
          <p:cNvPicPr/>
          <p:nvPr/>
        </p:nvPicPr>
        <p:blipFill>
          <a:blip r:embed="rId1"/>
          <a:stretch/>
        </p:blipFill>
        <p:spPr>
          <a:xfrm>
            <a:off x="0" y="3489480"/>
            <a:ext cx="9186840" cy="337644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6"/>
          <p:cNvSpPr/>
          <p:nvPr/>
        </p:nvSpPr>
        <p:spPr>
          <a:xfrm>
            <a:off x="0" y="3495600"/>
            <a:ext cx="4492800" cy="3378240"/>
          </a:xfrm>
          <a:prstGeom prst="rect">
            <a:avLst/>
          </a:prstGeom>
          <a:solidFill>
            <a:srgbClr val="344bf6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Прямоугольник 5"/>
          <p:cNvSpPr/>
          <p:nvPr/>
        </p:nvSpPr>
        <p:spPr>
          <a:xfrm>
            <a:off x="-1073160" y="3613320"/>
            <a:ext cx="1026000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8"/>
          <p:cNvSpPr/>
          <p:nvPr/>
        </p:nvSpPr>
        <p:spPr>
          <a:xfrm>
            <a:off x="48960" y="4489560"/>
            <a:ext cx="43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ТОР : доцент, к.т.н. Лисаневич М.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тудентов 3 курс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фед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едицинской инженер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ус_3"/>
          <p:cNvPicPr/>
          <p:nvPr/>
        </p:nvPicPr>
        <p:blipFill>
          <a:blip r:embed="rId1"/>
          <a:stretch/>
        </p:blipFill>
        <p:spPr>
          <a:xfrm>
            <a:off x="163440" y="1184400"/>
            <a:ext cx="5075280" cy="3071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"/>
          <p:cNvPicPr/>
          <p:nvPr/>
        </p:nvPicPr>
        <p:blipFill>
          <a:blip r:embed="rId2"/>
          <a:srcRect l="0" t="0" r="0" b="36365"/>
          <a:stretch/>
        </p:blipFill>
        <p:spPr>
          <a:xfrm>
            <a:off x="5796000" y="1355760"/>
            <a:ext cx="2716200" cy="364320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7"/>
          <p:cNvSpPr/>
          <p:nvPr/>
        </p:nvSpPr>
        <p:spPr>
          <a:xfrm>
            <a:off x="324000" y="4149720"/>
            <a:ext cx="5040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7. Частотная характеристика усил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-181080" y="5103720"/>
            <a:ext cx="830592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Полосой пропускани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илителя называется интервал частот, в котором коэффициент усиления постояне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17"/>
          <p:cNvSpPr/>
          <p:nvPr/>
        </p:nvSpPr>
        <p:spPr>
          <a:xfrm>
            <a:off x="2214720" y="19692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Характеристики усил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000" y="-13680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Усилитель на транзист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943600" cy="344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4000" y="-13680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Усилитель на транзист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2" descr="http://digteh.ru/Sxemoteh/RejRab/A/01.gif"/>
          <p:cNvPicPr/>
          <p:nvPr/>
        </p:nvPicPr>
        <p:blipFill>
          <a:blip r:embed="rId1"/>
          <a:stretch/>
        </p:blipFill>
        <p:spPr>
          <a:xfrm>
            <a:off x="2209680" y="1865160"/>
            <a:ext cx="4724640" cy="364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609480" y="0"/>
            <a:ext cx="8305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Особенности усиления биоэлектрических сигнал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228600" y="1676520"/>
            <a:ext cx="868680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just">
              <a:tabLst>
                <a:tab algn="l" pos="0"/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ецифика усилителей биопотенциалов опреде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собенностями биопотенциало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214200" algn="just">
              <a:buClr>
                <a:srgbClr val="0000ff"/>
              </a:buClr>
              <a:buFont typeface="Wingdings" charset="2"/>
              <a:buChar char="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ходное сопротивление биологической системы совместно с сопротивлением электродов, как правило, высоко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214200" algn="just">
              <a:buClr>
                <a:srgbClr val="0000ff"/>
              </a:buClr>
              <a:buFont typeface="Wingdings" charset="2"/>
              <a:buChar char="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потенциалы — медленно изменяющиеся сигнал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214200">
              <a:buClr>
                <a:srgbClr val="0000ff"/>
              </a:buClr>
              <a:buFont typeface="Wingdings" charset="2"/>
              <a:buChar char="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потенциалы — слабые сигналы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28600" y="1676520"/>
            <a:ext cx="86868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214200"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эффициент усиления составляет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214200"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эффициент дискриминации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214200"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биоусилители – низкочастот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214200"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е входное и низкое выходное сопротивления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609480" y="0"/>
            <a:ext cx="8305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Особенности усиления биоэлектрических сигнал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Прямоугольник 4"/>
          <p:cNvSpPr/>
          <p:nvPr/>
        </p:nvSpPr>
        <p:spPr>
          <a:xfrm>
            <a:off x="1949400" y="189000"/>
            <a:ext cx="52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Дифференциальный усили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560520" y="1333440"/>
            <a:ext cx="7880040" cy="4359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Прямоугольник 5"/>
          <p:cNvSpPr/>
          <p:nvPr/>
        </p:nvSpPr>
        <p:spPr>
          <a:xfrm>
            <a:off x="108000" y="26028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Виды входных сигналов в 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324000" y="1143000"/>
            <a:ext cx="84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algn="just">
              <a:tabLst>
                <a:tab algn="l" pos="0"/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ают два разных вида входных сигнал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algn="just">
              <a:tabLst>
                <a:tab algn="l" pos="0"/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algn="just">
              <a:buClr>
                <a:srgbClr val="0000ff"/>
              </a:buClr>
              <a:buFont typeface="Wingdings" charset="2"/>
              <a:buChar char="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фазный сигнал на базах обоих транзисторов действуют два напряжения, одинаковые по величине и совпадающие по фаз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algn="just">
              <a:buClr>
                <a:srgbClr val="0000ff"/>
              </a:buClr>
              <a:buFont typeface="Wingdings" charset="2"/>
              <a:buChar char="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algn="just">
              <a:buClr>
                <a:srgbClr val="0000ff"/>
              </a:buClr>
              <a:buFont typeface="Wingdings" charset="2"/>
              <a:buChar char="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фференциальный сигнал на базы VT1 и VT2 подаются два одинаковых по величине, но противоположных по фаз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нал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>
              <a:tabLst>
                <a:tab algn="l" pos="0"/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Рисунок 3" descr=""/>
          <p:cNvPicPr/>
          <p:nvPr/>
        </p:nvPicPr>
        <p:blipFill>
          <a:blip r:embed="rId1"/>
          <a:stretch/>
        </p:blipFill>
        <p:spPr>
          <a:xfrm>
            <a:off x="1601640" y="5133960"/>
            <a:ext cx="5940720" cy="1103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Прямоугольник 7"/>
          <p:cNvSpPr/>
          <p:nvPr/>
        </p:nvSpPr>
        <p:spPr>
          <a:xfrm>
            <a:off x="1949400" y="246240"/>
            <a:ext cx="52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Дифференциальный усили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Прямоугольник 3"/>
          <p:cNvSpPr/>
          <p:nvPr/>
        </p:nvSpPr>
        <p:spPr>
          <a:xfrm>
            <a:off x="360360" y="1189080"/>
            <a:ext cx="842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льный усилит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это симметричный усилитель постоянного напряжения с двумя входами и двумя выход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19" descr=""/>
          <p:cNvPicPr/>
          <p:nvPr/>
        </p:nvPicPr>
        <p:blipFill>
          <a:blip r:embed="rId1"/>
          <a:stretch/>
        </p:blipFill>
        <p:spPr>
          <a:xfrm>
            <a:off x="706320" y="2408400"/>
            <a:ext cx="7480440" cy="828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"/>
          <p:cNvPicPr/>
          <p:nvPr/>
        </p:nvPicPr>
        <p:blipFill>
          <a:blip r:embed="rId2"/>
          <a:stretch/>
        </p:blipFill>
        <p:spPr>
          <a:xfrm>
            <a:off x="1449360" y="3133800"/>
            <a:ext cx="5994360" cy="3092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Прямоугольник 5"/>
          <p:cNvSpPr/>
          <p:nvPr/>
        </p:nvSpPr>
        <p:spPr>
          <a:xfrm>
            <a:off x="108000" y="26028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Дифференциальный усили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1476360" y="1143000"/>
            <a:ext cx="6481800" cy="8571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"/>
          <p:cNvPicPr/>
          <p:nvPr/>
        </p:nvPicPr>
        <p:blipFill>
          <a:blip r:embed="rId2"/>
          <a:stretch/>
        </p:blipFill>
        <p:spPr>
          <a:xfrm>
            <a:off x="755640" y="2028960"/>
            <a:ext cx="7345440" cy="51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Прямоугольник 7"/>
          <p:cNvSpPr/>
          <p:nvPr/>
        </p:nvSpPr>
        <p:spPr>
          <a:xfrm>
            <a:off x="1704960" y="6480"/>
            <a:ext cx="573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Основные параметры усилите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дифференциального сигнал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Рисунок 3" descr=""/>
          <p:cNvPicPr/>
          <p:nvPr/>
        </p:nvPicPr>
        <p:blipFill>
          <a:blip r:embed="rId1"/>
          <a:stretch/>
        </p:blipFill>
        <p:spPr>
          <a:xfrm>
            <a:off x="122400" y="1003320"/>
            <a:ext cx="8899200" cy="2401920"/>
          </a:xfrm>
          <a:prstGeom prst="rect">
            <a:avLst/>
          </a:prstGeom>
          <a:ln w="0">
            <a:noFill/>
          </a:ln>
        </p:spPr>
      </p:pic>
      <p:sp>
        <p:nvSpPr>
          <p:cNvPr id="552" name="Прямоугольник 4"/>
          <p:cNvSpPr/>
          <p:nvPr/>
        </p:nvSpPr>
        <p:spPr>
          <a:xfrm>
            <a:off x="417600" y="428292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с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эффициент усиления синфазного сигнала, определяемый как отношение выходного и входного синфазного сигнал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tretch/>
        </p:blipFill>
        <p:spPr>
          <a:xfrm>
            <a:off x="3132000" y="2790720"/>
            <a:ext cx="2305080" cy="974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44bf6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1760" y="16765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Классификация усил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Характеристики усилител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  <a:ea typeface="Times New Roman"/>
              </a:rPr>
              <a:t>Усилитель на транзист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Особенности усиления биоэлектрических сигнал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Дифференциальный усил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Прямоугольник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Прямая соединительная линия 5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Прямоугольник 7"/>
          <p:cNvSpPr/>
          <p:nvPr/>
        </p:nvSpPr>
        <p:spPr>
          <a:xfrm>
            <a:off x="1748880" y="6480"/>
            <a:ext cx="564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Основные параметры усил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дифференциального сигнал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Прямоугольник 2"/>
          <p:cNvSpPr/>
          <p:nvPr/>
        </p:nvSpPr>
        <p:spPr>
          <a:xfrm>
            <a:off x="412920" y="1187280"/>
            <a:ext cx="81756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ое сопротивление (дифференциаль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‒ это сопро- тивление между входами, определяемое как отношение приращения разностного напряжения на входе к приращению входного тока, вызванному приращением этого напряжения; вх 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фазное входное сопротивл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‒ это сопротивление между входом и нулевым проводом, определяемое как отношение приращения напряжения синфазного сигнала к приращению входного тока, вызванному приращением напряжения; вх с 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Прямоугольник 8"/>
          <p:cNvSpPr/>
          <p:nvPr/>
        </p:nvSpPr>
        <p:spPr>
          <a:xfrm>
            <a:off x="395280" y="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Подавление помех с помощью дифференциального усил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7" descr="http://nauchebe.net/img/electro_practica_image407.jpg"/>
          <p:cNvPicPr/>
          <p:nvPr/>
        </p:nvPicPr>
        <p:blipFill>
          <a:blip r:embed="rId1"/>
          <a:stretch/>
        </p:blipFill>
        <p:spPr>
          <a:xfrm>
            <a:off x="755640" y="1916280"/>
            <a:ext cx="704520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Опреде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179280" y="9507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Усилител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лектрических сигналов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электронный усилитель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устройство, увеличивающе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мплиту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их сигналов без изменения их формы за счет постороннего источника электрической энерг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Прямоугольник 1"/>
          <p:cNvSpPr/>
          <p:nvPr/>
        </p:nvSpPr>
        <p:spPr>
          <a:xfrm>
            <a:off x="2503440" y="24444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Схема усиления сигн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"/>
          <p:cNvSpPr/>
          <p:nvPr/>
        </p:nvSpPr>
        <p:spPr>
          <a:xfrm>
            <a:off x="250920" y="5140440"/>
            <a:ext cx="84582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. Схема усиления сиг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0" name="Object 5"/>
          <p:cNvGraphicFramePr/>
          <p:nvPr/>
        </p:nvGraphicFramePr>
        <p:xfrm>
          <a:off x="914400" y="1393920"/>
          <a:ext cx="7543800" cy="35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93920"/>
                    <a:ext cx="7543800" cy="35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Прямоугольник 4"/>
          <p:cNvSpPr/>
          <p:nvPr/>
        </p:nvSpPr>
        <p:spPr>
          <a:xfrm>
            <a:off x="2286000" y="1843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Классификация усил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Прямоугольник 2"/>
          <p:cNvSpPr/>
          <p:nvPr/>
        </p:nvSpPr>
        <p:spPr>
          <a:xfrm>
            <a:off x="611280" y="1079640"/>
            <a:ext cx="806436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диапазону усиливаемых частот – усилители низких частот (УНЧ), усилители постоянного тока (УПТ), усилители высоких частот (УВЧ),избирательные усилит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функциональному назначению – усилители напряжения, тока, мощ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 характеру усиливаемого сигнала – усилители непрерывных и импульсных сигна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"/>
          <p:cNvSpPr/>
          <p:nvPr/>
        </p:nvSpPr>
        <p:spPr>
          <a:xfrm>
            <a:off x="2340000" y="260280"/>
            <a:ext cx="8458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  <a:ea typeface="Times New Roman"/>
              </a:rPr>
              <a:t>Характеристики усил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228600" y="1193760"/>
            <a:ext cx="868680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just">
              <a:tabLst>
                <a:tab algn="l" pos="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а) Входное сопротивление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сопротивление между его входными клеммами, которое можно найти по форму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</a:rPr>
              <a:t>В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</a:rPr>
              <a:t>В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/I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</a:rPr>
              <a:t>В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б) Коэффициент уси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эффициент усилен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илителя равен отношению сигнала на выходе усилителя к значению сигнала на вход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K = U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</a:rPr>
              <a:t>В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Прямоугольник 4"/>
          <p:cNvSpPr/>
          <p:nvPr/>
        </p:nvSpPr>
        <p:spPr>
          <a:xfrm>
            <a:off x="2363040" y="20808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Характеристики усил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343080" y="1004760"/>
            <a:ext cx="8458200" cy="55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усиления усилителя из нескольких каскадов равен произведению коэффициентов усиления усилителей всех используемых каскад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</a:rPr>
              <a:t>ОБЩ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К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в) Амплитудная характеристика усилител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это зависимость максимального значения выходного сигнала от максимального значения входно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ассматриваемого усилителя по напряжению амплитудная характеристика представляется зависимость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=f(U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MАХ В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343080" y="1177920"/>
            <a:ext cx="845820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неизменности формы сигнала коэффициент усиления должен быть одинаков в пределах изменения входного сигна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этого необходимо использовать усилитель с 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линейной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плитудной зависимостью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</a:rPr>
              <a:t> ВЫ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</a:rPr>
              <a:t> ВХ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Прямоугольник 7"/>
          <p:cNvSpPr/>
          <p:nvPr/>
        </p:nvSpPr>
        <p:spPr>
          <a:xfrm>
            <a:off x="2363040" y="20808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Характеристики усил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7" descr="ус_1"/>
          <p:cNvPicPr/>
          <p:nvPr/>
        </p:nvPicPr>
        <p:blipFill>
          <a:blip r:embed="rId1"/>
          <a:stretch/>
        </p:blipFill>
        <p:spPr>
          <a:xfrm>
            <a:off x="539640" y="3473280"/>
            <a:ext cx="2865600" cy="23432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8" descr=""/>
          <p:cNvPicPr/>
          <p:nvPr/>
        </p:nvPicPr>
        <p:blipFill>
          <a:blip r:embed="rId2"/>
          <a:stretch/>
        </p:blipFill>
        <p:spPr>
          <a:xfrm>
            <a:off x="5475240" y="3381480"/>
            <a:ext cx="1629000" cy="26082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5"/>
          <p:cNvSpPr/>
          <p:nvPr/>
        </p:nvSpPr>
        <p:spPr>
          <a:xfrm>
            <a:off x="990720" y="5996160"/>
            <a:ext cx="71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6. Амплитудная характеристика усилителя</a:t>
            </a:r>
            <a:r>
              <a:rPr b="0" lang="en-US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343080" y="949320"/>
            <a:ext cx="8458200" cy="54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г) Частотная характеристика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м случае, когда усиливаемый сигнал несинусоидальный, его можно разложить на отдельные гармоники, характеризующиеся соответствующей частотой. Коэффициент усиления для каждой гармоники может оказаться разным. Поэтому необходимо учитывать частотную характеристику усили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астотная характеристика усилител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 зависимость коэффициента усиления от частоты сигнала: К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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го чтобы несинусоидальный сигнал был усилен без искажения, нужно, чтобы коэффициент усиления не зависел от частоты, то есть К (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общем случае это условие не выполняется, что приводит к искажениям формы сигнала, которые называются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частотным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Прямоугольник 8"/>
          <p:cNvSpPr/>
          <p:nvPr/>
        </p:nvSpPr>
        <p:spPr>
          <a:xfrm>
            <a:off x="2363040" y="17928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Характеристики усил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PC</dc:creator>
  <dc:description/>
  <dc:language>en-US</dc:language>
  <cp:lastModifiedBy>Mariia L</cp:lastModifiedBy>
  <cp:lastPrinted>2014-02-25T10:50:40Z</cp:lastPrinted>
  <dcterms:modified xsi:type="dcterms:W3CDTF">2022-02-22T06:39:18Z</dcterms:modified>
  <cp:revision>167</cp:revision>
  <dc:subject/>
  <dc:title>Презентация PowerPoint</dc:title>
</cp:coreProperties>
</file>