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4E84-F8C6-4871-9E64-74FC45B1C8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777-ABF0-4315-A4DE-71D872F265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5CC-6DD8-4D29-B7F3-E4EEA61E1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D5C-1D9E-4EBE-99C7-BB849F7E3D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BE64-8E1B-492E-978E-B936038BCC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EAA0-727C-4F4A-BED5-3F089E9DFD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5A59-8BE0-4EA1-B936-45C9BC9EF4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9ADF-8086-49EF-AC12-1A8AA5A54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616-F792-43FC-883E-CB9C8B195D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5BF3-F577-4A69-912A-AB7F478526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7D3D-4F9D-421D-8C8C-9416BDA6E6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EF0-9DDB-49CC-BD3D-FAA18240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2FA-8511-4F1C-9283-BE8FB186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10B2-063F-48B9-AFF0-D70C042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06436-1457-4010-9092-13D456D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2CA8F-9F15-4281-813C-018A699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2EFC-AA05-43B1-9318-8A65E3C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567F4-77ED-47C6-A7D8-7A67CFA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93AB4-2247-4CBC-9B23-BA386AF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49AF2-8431-4E8F-BFB7-985C38A2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5414-A387-4348-9CD6-5DAB1A88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79B3B-657B-43AB-9A47-C06B6D35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F30DC-8FA4-47BC-86C5-FAA4CABD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1FA-70B0-46FF-924F-FD2E4C4A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3C303-7FF9-4E51-B66E-EB0ED80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0349-B5DC-4D4A-96A5-67E86C2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43B9B-67DA-43F8-A8DD-BDC9B6D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0D479-BCC6-4E1C-898E-CC0FC6AA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7CCD2-E05B-409A-A249-12759B54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A1F5-5867-4328-83EF-A9EBA70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E7CB-0652-4C60-BC62-D770B7D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64B36-06F5-4F41-8455-0A6C8A4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AF6C4-F7F9-448E-A0EA-208F084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379EE-0BCB-4CB6-B2A8-0A56825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8D4-E347-46C5-B30A-4B7E344F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0379E-B3BF-421C-A7F5-FC205A8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F7CE3-FFD5-43EF-882B-B8D1A726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CCEA-51F0-424B-9946-A93CB120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AAA1-A5A2-4F40-A770-AD658DB1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9369-A0B4-4413-A5FE-DF7992BF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01D9B-3D94-4F83-B492-8C59E86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7B2CC-813D-48C3-BCDF-1796646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DA0C0-45DF-4232-962F-886B858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9E7D-79EE-4B1A-8145-9622BD6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CF3AD-FFFD-4F83-8635-40A58CD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4753-3EA7-4AAE-A660-181B108D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723B7-D24E-429F-847F-3E39632B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29C67-2230-4CF6-8715-1F30BA3E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E714-A341-4D8E-A6EF-EF35316A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AB5-20E9-4C00-9423-F694D2EB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D314-9C14-4EBE-B19C-859045C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B1F3-C75F-4AA4-BF75-344CB209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4094-57CC-4A6B-B9C2-5EF1611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CC9-B004-4404-8258-013CCE46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EB4D-1DC2-45A1-BCB6-CA2A913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574-9726-41FF-AEE7-6063B695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BFEE-B951-467D-9776-E86C0AC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CA1-8544-4064-9495-69BDF75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85B-C68F-471A-8FDE-83D1A927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9ADC-C3D0-4D60-BFFD-7D2E51F4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341-DD2D-42DF-BDB0-16284580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C149-28E6-4DCB-94DF-EADE0739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26BD-0893-4854-9A73-58D51B7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CAE7-638F-450B-AB7E-08D08579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2D9E-6E8E-4F5E-93D9-A3813420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D6DD-83B7-46BD-9CE5-DDBFAAA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A29-71FD-4BF3-B7F4-AC05D3B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96A7-7E9E-4784-83C4-E31ACBC4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699C-68C7-453C-B9FB-A7357F6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E71C-7F83-45DB-863F-C6C12CA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4BB5-6121-42F7-A83C-DE0DFB6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7B0D-F576-4BAE-9ABB-0A74AB6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5460-303D-40D7-B395-4C7C895C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99E0-7990-4F8F-87B8-8D9F4F86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37E6-A227-4E9A-BC76-056BFE1F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1C42-2007-4020-BE2D-60C5CA4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820E-6A5F-41E7-B844-86533C0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396-668B-4197-90DA-9CB7BA38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4F4A-2A79-4DEE-A5BA-D662142D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3872-A468-42D3-B928-ED677D5B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63C3-B3BA-462C-BA2D-D2B2A071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07D4-6FD9-43DD-BC99-38627975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E65A-D08B-42CA-8D67-EFE5E9B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E985-CE5A-4FFE-A559-300BF31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3442-892F-4D64-BB45-6DBC7C46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7453-8AD3-47C3-AC64-D431BC79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1BA0-8808-4E45-8D37-86C5D44B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FD36-388C-4F69-B828-9054099F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A0A-40A5-4268-A926-1FA499BC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3C91-13F0-4A56-9A60-66CB3A06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EEE0-FD6B-4A82-8A2C-7E74C0A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281D-DE5E-49DF-82E4-04A47959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E7CE-F68C-46D5-AA9E-FF219E4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EECC-D62A-4E03-B08A-4EFB8CB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E873-936E-4837-AA80-DCEFCB2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076C-9410-47CC-B750-042EFE6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73ECF-17CB-4F08-93E7-0DBC83D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0A95-D30A-46C3-B398-8B9B4C5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05CEC-64D5-41AF-A4AD-F69A8C70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C1B-6DC0-403D-9901-7B36E67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F0ED-8BF8-47C4-840C-E278FB03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3FC0-85FF-4637-95D7-0EA4018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B71F-88BD-4A71-A55B-4E13934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FD46-93BC-4DAE-B247-4DB2DF3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00E9-9AE4-4A1B-B3CF-A1D8DEF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E636-4EEB-4159-9003-93F052D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2BB3-6B29-4D4F-9489-9057A88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20C4A-9328-4DBD-A5E8-52792B9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F6B40-5FDA-467B-B6BF-DC322E0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EBE4-DD26-4341-983D-A32D6E2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F6D-6572-40C9-8E20-A26A40F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979E-A614-4D19-BED6-8F582CF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6067-6242-4B73-BA45-FCF5857D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54DA-3EA6-42A2-AB33-E1EF1AD5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6A46-9DB8-48F9-9730-3E861B4A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D2FD-5D43-4583-A030-0E9E5856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2DAF-E23B-4699-8047-687DDE5B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D505-33F1-43AF-B868-7338DDB2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0E706-3A53-4E9C-AF6A-9FD8E47C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5DB1-26CB-495C-81D2-7587162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5CC06-BAFD-49B7-BD4D-50E201B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8C-7E24-4457-84D9-B8FBDE8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2A66-6E99-4FD8-ABEA-AB57CEE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D75E-D4C8-4661-9B88-3B67762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8AC5A-2381-4E53-8780-2F2A710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CD12-FF13-4111-BF35-9C9C4AE6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8299-BFEE-474B-A7F1-DC96691C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A420-90A1-4F53-9279-C7357A31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8547-E61B-4857-BEA4-FDC916C3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8F5D8-6D59-4C33-8B42-9B12E144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23318-058C-48B8-85E9-DD1B221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97EDD-955F-42AD-8B5F-2FC7706D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8F4-4BEC-4533-90B4-FC0B301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E700-5FF8-496C-B0AF-A52ADE0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9A26-5B42-4E47-8E6C-AE74D16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C66F5-D7DF-4697-9127-7566BD2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0041-8454-49AC-ADE9-6046843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7EFC-A1DB-4103-A100-59B95E3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95A9-C725-4F1F-8246-E24219F0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D0F0-6108-4060-9155-6432CB3D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760C-2BD1-4861-BC70-EEC04EFF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A81ED-CAF3-453F-A1BE-19ACC36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2E1C-7B8B-4EB6-9863-8613F4E0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AA2C-C297-414A-9485-51D680E15CBA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2240-B96F-41F4-B8D4-BD0826C1789B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D31-34A9-4586-811D-B633758C7C3D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865-CA3C-4407-AB29-C1D9577083F4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4664-661B-4227-9182-0198B2F0B2E6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153-AC75-4002-95B6-E3446006B8F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1B81-AA39-4B28-AA4D-4ADDCA822899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32F-640C-49E4-8332-E5F526A2A39F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549-30D1-4125-85A1-62F7B8C468AC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F4C-B87A-4D4C-B598-5BA56BBA19A6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D10-A7CE-4D25-9A90-EFA74ED5F871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6360" y="874440"/>
            <a:ext cx="379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 Классификация медицинской техники. Компоненты медицинской аппарату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16000" y="1890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5076720" y="4292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: доцент кафедры ТОМЛ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аневич Мария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2"/>
          <p:cNvSpPr/>
          <p:nvPr/>
        </p:nvSpPr>
        <p:spPr>
          <a:xfrm>
            <a:off x="4513320" y="512640"/>
            <a:ext cx="0" cy="2808360"/>
          </a:xfrm>
          <a:prstGeom prst="line">
            <a:avLst/>
          </a:prstGeom>
          <a:ln w="475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250920" y="639720"/>
            <a:ext cx="357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Дисципл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УЗЛЫ И ЭЛЕМЕНТЫ МЕДИЦИНСКОЙ ТЕ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Рисунок 7" descr=""/>
          <p:cNvPicPr/>
          <p:nvPr/>
        </p:nvPicPr>
        <p:blipFill>
          <a:blip r:embed="rId1"/>
          <a:stretch/>
        </p:blipFill>
        <p:spPr>
          <a:xfrm>
            <a:off x="0" y="3489480"/>
            <a:ext cx="9186840" cy="3376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6"/>
          <p:cNvSpPr/>
          <p:nvPr/>
        </p:nvSpPr>
        <p:spPr>
          <a:xfrm>
            <a:off x="0" y="3495600"/>
            <a:ext cx="4492800" cy="3378240"/>
          </a:xfrm>
          <a:prstGeom prst="rect">
            <a:avLst/>
          </a:prstGeom>
          <a:solidFill>
            <a:srgbClr val="344bf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-1073160" y="3613320"/>
            <a:ext cx="102600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960" y="4489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 : доцент, к.т.н. Лисаневич М.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тудентов 3 кур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дицинской инженер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bf6"/>
                </a:solidFill>
                <a:latin typeface="Calibri"/>
              </a:rPr>
              <a:t>Примеры КЭУ для переработки, хранения и автоматического анализа медикобиологическ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095720" y="1125360"/>
            <a:ext cx="5048280" cy="52866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8"/>
          <p:cNvSpPr/>
          <p:nvPr/>
        </p:nvSpPr>
        <p:spPr>
          <a:xfrm>
            <a:off x="0" y="177336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для автоматизации исследований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инико-диагностических лабораториях – санитар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пидемиологических лабораториях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торы свертывания кров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ные и газовые хроматограф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алоримет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феломет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изаторы иммунохи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Структурная схема съема, передачи и регистрации медико-биолог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8360" y="4797360"/>
            <a:ext cx="838188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измеряемый параметр биологической систем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величина, регистрируемая на выходе измерительным прибор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Прямая соединительная линия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Рисунок 6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Прямоугольник 1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Прямая соединительная линия 12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12" descr=""/>
          <p:cNvPicPr/>
          <p:nvPr/>
        </p:nvPicPr>
        <p:blipFill>
          <a:blip r:embed="rId1"/>
          <a:stretch/>
        </p:blipFill>
        <p:spPr>
          <a:xfrm>
            <a:off x="52560" y="1062000"/>
            <a:ext cx="9038880" cy="473400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4"/>
          <p:cNvSpPr/>
          <p:nvPr/>
        </p:nvSpPr>
        <p:spPr>
          <a:xfrm>
            <a:off x="324000" y="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Структурная схема КДА на примере электрокардиограф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5"/>
          <p:cNvSpPr/>
          <p:nvPr/>
        </p:nvSpPr>
        <p:spPr>
          <a:xfrm>
            <a:off x="840240" y="587700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ник (П) и передатчик (Пр) в электрокардиографе отсут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bf6"/>
                </a:solidFill>
                <a:latin typeface="Calibri"/>
              </a:rPr>
              <a:t>Структурная схема съема, передачи и регистрации медико-биолог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468360" y="4797360"/>
            <a:ext cx="838188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измеряемый параметр биологической систем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величина, регистрируемая на выходе измерительным прибор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Прямая соединительная линия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Рисунок 6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"/>
          <p:cNvGrpSpPr/>
          <p:nvPr/>
        </p:nvGrpSpPr>
        <p:grpSpPr>
          <a:xfrm>
            <a:off x="755640" y="1268280"/>
            <a:ext cx="7993080" cy="4753080"/>
            <a:chOff x="755640" y="1268280"/>
            <a:chExt cx="7993080" cy="4753080"/>
          </a:xfrm>
        </p:grpSpPr>
        <p:sp>
          <p:nvSpPr>
            <p:cNvPr id="469" name="AutoShape 5"/>
            <p:cNvSpPr/>
            <p:nvPr/>
          </p:nvSpPr>
          <p:spPr>
            <a:xfrm>
              <a:off x="755640" y="1268280"/>
              <a:ext cx="799308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Group 6"/>
            <p:cNvGrpSpPr/>
            <p:nvPr/>
          </p:nvGrpSpPr>
          <p:grpSpPr>
            <a:xfrm>
              <a:off x="755640" y="1268280"/>
              <a:ext cx="7696440" cy="4488120"/>
              <a:chOff x="755640" y="1268280"/>
              <a:chExt cx="7696440" cy="4488120"/>
            </a:xfrm>
          </p:grpSpPr>
          <p:sp>
            <p:nvSpPr>
              <p:cNvPr id="471" name="Text Box 7"/>
              <p:cNvSpPr/>
              <p:nvPr/>
            </p:nvSpPr>
            <p:spPr>
              <a:xfrm>
                <a:off x="3420720" y="1268280"/>
                <a:ext cx="2811600" cy="39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ая техник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8"/>
              <p:cNvSpPr/>
              <p:nvPr/>
            </p:nvSpPr>
            <p:spPr>
              <a:xfrm>
                <a:off x="1347840" y="2060280"/>
                <a:ext cx="1923840" cy="5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о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оруд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Text Box 9"/>
              <p:cNvSpPr/>
              <p:nvPr/>
            </p:nvSpPr>
            <p:spPr>
              <a:xfrm>
                <a:off x="4011840" y="2060280"/>
                <a:ext cx="1923480" cy="5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а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ппаратур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Text Box 10"/>
              <p:cNvSpPr/>
              <p:nvPr/>
            </p:nvSpPr>
            <p:spPr>
              <a:xfrm>
                <a:off x="6528240" y="2060280"/>
                <a:ext cx="1923840" cy="5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струмент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11"/>
              <p:cNvSpPr/>
              <p:nvPr/>
            </p:nvSpPr>
            <p:spPr>
              <a:xfrm>
                <a:off x="2828160" y="2984760"/>
                <a:ext cx="1922400" cy="79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Электрическа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а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ппаратур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12"/>
              <p:cNvSpPr/>
              <p:nvPr/>
            </p:nvSpPr>
            <p:spPr>
              <a:xfrm>
                <a:off x="5344200" y="2984760"/>
                <a:ext cx="1922760" cy="79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ханическа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едицинска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ппаратур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13"/>
              <p:cNvSpPr/>
              <p:nvPr/>
            </p:nvSpPr>
            <p:spPr>
              <a:xfrm>
                <a:off x="1644480" y="4172760"/>
                <a:ext cx="1921680" cy="790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здействующ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ппараты и прибор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Text Box 14"/>
              <p:cNvSpPr/>
              <p:nvPr/>
            </p:nvSpPr>
            <p:spPr>
              <a:xfrm>
                <a:off x="4160880" y="4172760"/>
                <a:ext cx="1921680" cy="790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оспринимающ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бор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Text Box 15"/>
              <p:cNvSpPr/>
              <p:nvPr/>
            </p:nvSpPr>
            <p:spPr>
              <a:xfrm>
                <a:off x="755640" y="5229000"/>
                <a:ext cx="1919520" cy="52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ерапевтическ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ппараты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Text Box 16"/>
              <p:cNvSpPr/>
              <p:nvPr/>
            </p:nvSpPr>
            <p:spPr>
              <a:xfrm>
                <a:off x="2976120" y="5229000"/>
                <a:ext cx="1921680" cy="52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иагностическ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ибор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17"/>
              <p:cNvSpPr/>
              <p:nvPr/>
            </p:nvSpPr>
            <p:spPr>
              <a:xfrm>
                <a:off x="4899960" y="1663920"/>
                <a:ext cx="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18"/>
              <p:cNvSpPr/>
              <p:nvPr/>
            </p:nvSpPr>
            <p:spPr>
              <a:xfrm flipH="1">
                <a:off x="2383200" y="1663920"/>
                <a:ext cx="251604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19"/>
              <p:cNvSpPr/>
              <p:nvPr/>
            </p:nvSpPr>
            <p:spPr>
              <a:xfrm>
                <a:off x="4899960" y="1663920"/>
                <a:ext cx="236808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Line 20"/>
              <p:cNvSpPr/>
              <p:nvPr/>
            </p:nvSpPr>
            <p:spPr>
              <a:xfrm flipH="1">
                <a:off x="3863880" y="2588760"/>
                <a:ext cx="103572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21"/>
              <p:cNvSpPr/>
              <p:nvPr/>
            </p:nvSpPr>
            <p:spPr>
              <a:xfrm>
                <a:off x="4899960" y="2588760"/>
                <a:ext cx="118440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22"/>
              <p:cNvSpPr/>
              <p:nvPr/>
            </p:nvSpPr>
            <p:spPr>
              <a:xfrm flipH="1">
                <a:off x="2531520" y="3776760"/>
                <a:ext cx="1184400" cy="3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>
                <a:off x="3716280" y="3776760"/>
                <a:ext cx="1183680" cy="3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Line 24"/>
              <p:cNvSpPr/>
              <p:nvPr/>
            </p:nvSpPr>
            <p:spPr>
              <a:xfrm flipH="1">
                <a:off x="1643400" y="4964760"/>
                <a:ext cx="88776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25"/>
              <p:cNvSpPr/>
              <p:nvPr/>
            </p:nvSpPr>
            <p:spPr>
              <a:xfrm>
                <a:off x="2531520" y="4964760"/>
                <a:ext cx="103680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Прямоугольник 2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ямая соединительная линия 24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bf6"/>
                </a:solidFill>
                <a:latin typeface="Calibri"/>
              </a:rPr>
              <a:t>Классификая медицинской тех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bf6"/>
                </a:solidFill>
                <a:latin typeface="Calibri"/>
              </a:rPr>
              <a:t>Основные группы медицинских электронных приборов и аппар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24000" y="1268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ую электронную аппаратуру можно разделить на два класс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ие приборы и медицинские аппара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ий прибор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техническое устройство, предназначенное для диагностических или лечебных измерений (медицинский термометр, электрокардиограф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ий аппара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техническое устройство, позволяющее создавать энергетическое воздействие (часто дозированное) терапевтического, хирургического или бактерицидного свойства (аппарат УВЧ терапии, аппарат искусственной почки и др.), а также обеспечить сохранение определенного состава некоторых субстан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Прямая соединительная линия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Рисунок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335640" cy="4464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bf6"/>
                </a:solidFill>
                <a:latin typeface="Calibri"/>
              </a:rPr>
              <a:t>Классификая медицинской тех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bf6"/>
                </a:solidFill>
                <a:latin typeface="Calibri"/>
              </a:rPr>
              <a:t>Классификая медицинской тех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Рисунок 6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41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4bf6"/>
                </a:solidFill>
                <a:latin typeface="Calibri"/>
              </a:rPr>
              <a:t>Терапевтическая аппа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7"/>
          <p:cNvSpPr/>
          <p:nvPr/>
        </p:nvSpPr>
        <p:spPr>
          <a:xfrm>
            <a:off x="46836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а для дозированного воздействия на организм человека различными физическими факторами в лечебных ц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8"/>
          <p:cNvSpPr/>
          <p:nvPr/>
        </p:nvSpPr>
        <p:spPr>
          <a:xfrm>
            <a:off x="2195640" y="191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Calibri"/>
              </a:rPr>
              <a:t>Структурная схема терапевтической аппаратур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47640" y="2538360"/>
            <a:ext cx="6786720" cy="160668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9"/>
          <p:cNvSpPr/>
          <p:nvPr/>
        </p:nvSpPr>
        <p:spPr>
          <a:xfrm>
            <a:off x="971640" y="43657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4b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ИП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точник 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44b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Генератор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тор, вырабатывающий энергию, оказывающую физиотерапевтическое воздейств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44bf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КИ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трольно-измерительное устройство, обеспечивающее возможность контроля уровня воздействия на паци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bf6"/>
                </a:solidFill>
                <a:latin typeface="Calibri"/>
              </a:rPr>
              <a:t>Структурная схема терапевтической аппаратуры на примере аппарата для гальванизации и электро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77280" cy="47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bf6"/>
                </a:solidFill>
                <a:latin typeface="Calibri"/>
              </a:rPr>
              <a:t>Структурная схема терапевтической аппаратуры на примере аппарата для гальванизации и электро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174840" cy="459252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6"/>
          <p:cNvSpPr/>
          <p:nvPr/>
        </p:nvSpPr>
        <p:spPr>
          <a:xfrm>
            <a:off x="250920" y="1484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Гальванизация и электофоре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мотологии и невралогии: травмы и заболевания периферической нервной системы (плекситы, невралгии, моно- и полинейропатии и др.); травмы и заболевания ЦНС (черепномозговая травма, расстройства мозгового кровообращения, мигрень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В стоматологи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ародонтозах, глоссалгии, стоматита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В гастроэнтеролог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ронических колитах, холецистите, язвенной болезни желудка и двенадцатиперстной ки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ая соединительная линия 3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МТ Лекция №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4bf6"/>
                </a:solidFill>
                <a:latin typeface="Calibri"/>
              </a:rPr>
              <a:t>Кибернетические электронные устройства (КЭ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324000" y="170028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Назнач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бернетические электронные устройства (КЭУ) предназна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реработки, хранения и автоматического анализа медико-биологическ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правления процессами жизнедеятельности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втоматического регулирования состояния окружающей сре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4bf6"/>
                </a:solidFill>
                <a:latin typeface="Times New Roman"/>
                <a:ea typeface="Times New Roman"/>
              </a:rPr>
              <a:t>Состав и структура КЭ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 или специализированный микропроцесс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енная к ним управляющая, анализирующая или регулирующая перифе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PC</dc:creator>
  <dc:description/>
  <dc:language>en-US</dc:language>
  <cp:lastModifiedBy>Mariia L</cp:lastModifiedBy>
  <cp:lastPrinted>2014-02-25T10:50:40Z</cp:lastPrinted>
  <dcterms:modified xsi:type="dcterms:W3CDTF">2022-02-14T06:39:48Z</dcterms:modified>
  <cp:revision>144</cp:revision>
  <dc:subject/>
  <dc:title>Презентация PowerPoint</dc:title>
</cp:coreProperties>
</file>